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7E7A-3390-4E10-86E5-AC84EDD2B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D82-E8AB-49D6-A2D9-24FF3D9AA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ma – a thick fluid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m – the chloroplasts solar power packs; site where chloroplast actually trap sol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7F3-031E-40A6-A1E4-70312406C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chloroplast mitochondria have two cellular membr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mbrane space forms one fluid filled space; it encloses the second compartment which contains the fluid called ‘mitochondial matrix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stae = the folds that increase the surface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766-3793-4A35-80B7-74E7B6C0AE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637b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ffe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79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273240" y="653724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60280" y="4417920"/>
            <a:ext cx="868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66"/>
                </a:solidFill>
                <a:latin typeface="Arial"/>
              </a:rPr>
              <a:t>PowerPoint Lectures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Biology: Concepts and Connections, Fifth Edition</a:t>
            </a:r>
            <a:br>
              <a:rPr sz="1800"/>
            </a:br>
            <a:r>
              <a:rPr b="1" i="1" lang="en-US" sz="1800" spc="-1" strike="noStrike">
                <a:solidFill>
                  <a:srgbClr val="99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– Campbell, Reece, Taylor, and Si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0af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859120" indent="-34776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859120" indent="-347760">
              <a:spcBef>
                <a:spcPts val="1687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</a:rPr>
              <a:t>Chapter 4</a:t>
            </a:r>
            <a:endParaRPr b="1" lang="en-US" sz="5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0af"/>
                </a:solidFill>
                <a:latin typeface="Times New Roman"/>
              </a:rPr>
              <a:t>A Tour of the Cel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cc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2 Most cells are microscop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vary in size and sha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55"/>
          <p:cNvGrpSpPr/>
          <p:nvPr/>
        </p:nvGrpSpPr>
        <p:grpSpPr>
          <a:xfrm>
            <a:off x="1448640" y="2011320"/>
            <a:ext cx="4561200" cy="4389480"/>
            <a:chOff x="1448640" y="2011320"/>
            <a:chExt cx="4561200" cy="4389480"/>
          </a:xfrm>
        </p:grpSpPr>
        <p:pic>
          <p:nvPicPr>
            <p:cNvPr id="149" name="Picture 5" descr="_x0019_04_02aRelativeSizes_U.jpg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903480" y="2011320"/>
              <a:ext cx="210636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Line 6"/>
            <p:cNvSpPr/>
            <p:nvPr/>
          </p:nvSpPr>
          <p:spPr>
            <a:xfrm>
              <a:off x="4059000" y="2447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122720" y="2365200"/>
              <a:ext cx="657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Human height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4128120" y="25063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ength of some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nerve and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uscle cell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059000" y="258912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4125240" y="2923920"/>
              <a:ext cx="605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Chicken eg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4059000" y="3014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4116960" y="3455640"/>
              <a:ext cx="488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Frog eg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4059000" y="353664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 flipH="1" rot="16200000">
              <a:off x="4750560" y="2881080"/>
              <a:ext cx="649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Unaided ey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 flipH="1" rot="16200000">
              <a:off x="4895280" y="4096440"/>
              <a:ext cx="819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ight microscop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 flipH="1" rot="16200000">
              <a:off x="5074560" y="5116320"/>
              <a:ext cx="94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Electron microscop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3745800" y="2093760"/>
              <a:ext cx="35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3793320" y="2442960"/>
              <a:ext cx="30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3637800" y="281916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mm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10 cm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659760" y="318132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mm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1 cm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712320" y="3560760"/>
              <a:ext cx="372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m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3654720" y="3922560"/>
              <a:ext cx="438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3702240" y="4311360"/>
              <a:ext cx="39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3745080" y="4681440"/>
              <a:ext cx="353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r>
                <a:rPr b="0" lang="en-US" sz="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3658680" y="5059080"/>
              <a:ext cx="436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0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3701520" y="5429160"/>
              <a:ext cx="394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0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3749040" y="5794200"/>
              <a:ext cx="351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>
              <a:off x="3685320" y="6153120"/>
              <a:ext cx="41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0.1 nm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29"/>
            <p:cNvSpPr/>
            <p:nvPr/>
          </p:nvSpPr>
          <p:spPr>
            <a:xfrm>
              <a:off x="4109400" y="6105240"/>
              <a:ext cx="39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Atom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4049640" y="6205320"/>
              <a:ext cx="10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1"/>
            <p:cNvSpPr/>
            <p:nvPr/>
          </p:nvSpPr>
          <p:spPr>
            <a:xfrm>
              <a:off x="4087800" y="5532120"/>
              <a:ext cx="61560" cy="135000"/>
            </a:xfrm>
            <a:custGeom>
              <a:avLst/>
              <a:gdLst>
                <a:gd name="textAreaLeft" fmla="*/ 0 w 61560"/>
                <a:gd name="textAreaRight" fmla="*/ 22320 w 61560"/>
                <a:gd name="textAreaTop" fmla="*/ 3240 h 135000"/>
                <a:gd name="textAreaBottom" fmla="*/ 13176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2"/>
            <p:cNvSpPr/>
            <p:nvPr/>
          </p:nvSpPr>
          <p:spPr>
            <a:xfrm>
              <a:off x="4118040" y="551484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Protein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33"/>
            <p:cNvSpPr/>
            <p:nvPr/>
          </p:nvSpPr>
          <p:spPr>
            <a:xfrm>
              <a:off x="4095720" y="5903640"/>
              <a:ext cx="53640" cy="109800"/>
            </a:xfrm>
            <a:custGeom>
              <a:avLst/>
              <a:gdLst>
                <a:gd name="textAreaLeft" fmla="*/ 0 w 53640"/>
                <a:gd name="textAreaRight" fmla="*/ 19440 w 53640"/>
                <a:gd name="textAreaTop" fmla="*/ 2520 h 109800"/>
                <a:gd name="textAreaBottom" fmla="*/ 107280 h 1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34"/>
            <p:cNvSpPr/>
            <p:nvPr/>
          </p:nvSpPr>
          <p:spPr>
            <a:xfrm>
              <a:off x="4111200" y="5865480"/>
              <a:ext cx="736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mall molecule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35"/>
            <p:cNvSpPr/>
            <p:nvPr/>
          </p:nvSpPr>
          <p:spPr>
            <a:xfrm>
              <a:off x="4087800" y="5670360"/>
              <a:ext cx="55080" cy="109440"/>
            </a:xfrm>
            <a:custGeom>
              <a:avLst/>
              <a:gdLst>
                <a:gd name="textAreaLeft" fmla="*/ 0 w 55080"/>
                <a:gd name="textAreaRight" fmla="*/ 19800 w 55080"/>
                <a:gd name="textAreaTop" fmla="*/ 2520 h 109440"/>
                <a:gd name="textAreaBottom" fmla="*/ 106920 h 1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36"/>
            <p:cNvSpPr/>
            <p:nvPr/>
          </p:nvSpPr>
          <p:spPr>
            <a:xfrm>
              <a:off x="4120200" y="5653080"/>
              <a:ext cx="380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Lipid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37"/>
            <p:cNvSpPr/>
            <p:nvPr/>
          </p:nvSpPr>
          <p:spPr>
            <a:xfrm>
              <a:off x="4092480" y="5152680"/>
              <a:ext cx="53640" cy="108000"/>
            </a:xfrm>
            <a:custGeom>
              <a:avLst/>
              <a:gdLst>
                <a:gd name="textAreaLeft" fmla="*/ 0 w 53640"/>
                <a:gd name="textAreaRight" fmla="*/ 19440 w 53640"/>
                <a:gd name="textAreaTop" fmla="*/ 2520 h 108000"/>
                <a:gd name="textAreaBottom" fmla="*/ 10548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38"/>
            <p:cNvSpPr/>
            <p:nvPr/>
          </p:nvSpPr>
          <p:spPr>
            <a:xfrm>
              <a:off x="4124520" y="5127480"/>
              <a:ext cx="43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Viruse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39"/>
            <p:cNvSpPr/>
            <p:nvPr/>
          </p:nvSpPr>
          <p:spPr>
            <a:xfrm>
              <a:off x="4110480" y="5319360"/>
              <a:ext cx="525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Ribosom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40"/>
            <p:cNvSpPr/>
            <p:nvPr/>
          </p:nvSpPr>
          <p:spPr>
            <a:xfrm>
              <a:off x="4078080" y="540684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41"/>
            <p:cNvSpPr/>
            <p:nvPr/>
          </p:nvSpPr>
          <p:spPr>
            <a:xfrm>
              <a:off x="4120560" y="438120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42"/>
            <p:cNvSpPr/>
            <p:nvPr/>
          </p:nvSpPr>
          <p:spPr>
            <a:xfrm>
              <a:off x="4117320" y="4916160"/>
              <a:ext cx="807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ycoplasmas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(smallest bacteria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3"/>
            <p:cNvSpPr/>
            <p:nvPr/>
          </p:nvSpPr>
          <p:spPr>
            <a:xfrm>
              <a:off x="4046400" y="509076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44"/>
            <p:cNvSpPr/>
            <p:nvPr/>
          </p:nvSpPr>
          <p:spPr>
            <a:xfrm>
              <a:off x="4084560" y="4403520"/>
              <a:ext cx="47160" cy="360360"/>
            </a:xfrm>
            <a:custGeom>
              <a:avLst/>
              <a:gdLst>
                <a:gd name="textAreaLeft" fmla="*/ 0 w 47160"/>
                <a:gd name="textAreaRight" fmla="*/ 16920 w 4716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45"/>
            <p:cNvSpPr/>
            <p:nvPr/>
          </p:nvSpPr>
          <p:spPr>
            <a:xfrm>
              <a:off x="4084560" y="4027320"/>
              <a:ext cx="47160" cy="358920"/>
            </a:xfrm>
            <a:custGeom>
              <a:avLst/>
              <a:gdLst>
                <a:gd name="textAreaLeft" fmla="*/ 0 w 47160"/>
                <a:gd name="textAreaRight" fmla="*/ 16920 w 47160"/>
                <a:gd name="textAreaTop" fmla="*/ 9360 h 358920"/>
                <a:gd name="textAreaBottom" fmla="*/ 34956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46"/>
            <p:cNvSpPr/>
            <p:nvPr/>
          </p:nvSpPr>
          <p:spPr>
            <a:xfrm>
              <a:off x="4123440" y="412560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ost plant and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animal cell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7"/>
            <p:cNvSpPr/>
            <p:nvPr/>
          </p:nvSpPr>
          <p:spPr>
            <a:xfrm>
              <a:off x="4068720" y="4456080"/>
              <a:ext cx="10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48"/>
            <p:cNvSpPr/>
            <p:nvPr/>
          </p:nvSpPr>
          <p:spPr>
            <a:xfrm>
              <a:off x="4118760" y="4510080"/>
              <a:ext cx="64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ost bacteri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9"/>
            <p:cNvSpPr/>
            <p:nvPr/>
          </p:nvSpPr>
          <p:spPr>
            <a:xfrm>
              <a:off x="4121280" y="462564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Mitochondrion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50"/>
            <p:cNvSpPr/>
            <p:nvPr/>
          </p:nvSpPr>
          <p:spPr>
            <a:xfrm>
              <a:off x="4048200" y="4700520"/>
              <a:ext cx="107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52"/>
            <p:cNvSpPr/>
            <p:nvPr/>
          </p:nvSpPr>
          <p:spPr>
            <a:xfrm>
              <a:off x="1448640" y="604980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2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50"/>
          <p:cNvSpPr/>
          <p:nvPr/>
        </p:nvSpPr>
        <p:spPr>
          <a:xfrm>
            <a:off x="196200" y="2352600"/>
            <a:ext cx="366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 make up the small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; bird eggs are som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lkiest cells and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est cells are cert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and nerve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croscopic size of most cells ensures a sufficient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area that allows nutrients and wastes to move to 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the cell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rvive a cell must be able to house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mall cell has a greater ratio of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area to volume than a large cell of the same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2417760" y="2603520"/>
            <a:ext cx="5972040" cy="3808440"/>
            <a:chOff x="2417760" y="2603520"/>
            <a:chExt cx="5972040" cy="3808440"/>
          </a:xfrm>
        </p:grpSpPr>
        <p:pic>
          <p:nvPicPr>
            <p:cNvPr id="200" name="Picture 5" descr="_x001b_04_02bSizeSurfaceArea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417760" y="2603520"/>
              <a:ext cx="5972040" cy="309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3"/>
            <p:cNvGrpSpPr/>
            <p:nvPr/>
          </p:nvGrpSpPr>
          <p:grpSpPr>
            <a:xfrm>
              <a:off x="2984400" y="2622600"/>
              <a:ext cx="4935600" cy="3789360"/>
              <a:chOff x="2984400" y="2622600"/>
              <a:chExt cx="4935600" cy="3789360"/>
            </a:xfrm>
          </p:grpSpPr>
          <p:sp>
            <p:nvSpPr>
              <p:cNvPr id="202" name="Text Box 6"/>
              <p:cNvSpPr/>
              <p:nvPr/>
            </p:nvSpPr>
            <p:spPr>
              <a:xfrm>
                <a:off x="3172680" y="269064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7"/>
              <p:cNvSpPr/>
              <p:nvPr/>
            </p:nvSpPr>
            <p:spPr>
              <a:xfrm>
                <a:off x="5917680" y="262260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8"/>
              <p:cNvSpPr/>
              <p:nvPr/>
            </p:nvSpPr>
            <p:spPr>
              <a:xfrm>
                <a:off x="4662000" y="388764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9"/>
              <p:cNvSpPr/>
              <p:nvPr/>
            </p:nvSpPr>
            <p:spPr>
              <a:xfrm>
                <a:off x="5292720" y="3903840"/>
                <a:ext cx="87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"/>
              <p:cNvSpPr/>
              <p:nvPr/>
            </p:nvSpPr>
            <p:spPr>
              <a:xfrm>
                <a:off x="2984400" y="5722920"/>
                <a:ext cx="1658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urface are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f one large cub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5,40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1"/>
              <p:cNvSpPr/>
              <p:nvPr/>
            </p:nvSpPr>
            <p:spPr>
              <a:xfrm>
                <a:off x="6203880" y="5770440"/>
                <a:ext cx="1716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otal surface are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f 27 small cub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16,20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15"/>
          <p:cNvSpPr/>
          <p:nvPr/>
        </p:nvSpPr>
        <p:spPr>
          <a:xfrm>
            <a:off x="146124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ll cells have several basis features in common 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685440"/>
            <a:ext cx="853416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are bound by a membrane called the plasma membra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have genes made of D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contain ribosomes (protein factor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3 Prokaryotic cells are structurally simpler than eukar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two kinds of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karyotic an Eukaryo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2159640" y="2679840"/>
            <a:ext cx="4752000" cy="3646440"/>
            <a:chOff x="2159640" y="2679840"/>
            <a:chExt cx="4752000" cy="3646440"/>
          </a:xfrm>
        </p:grpSpPr>
        <p:pic>
          <p:nvPicPr>
            <p:cNvPr id="213" name="Picture 5" descr="_x001b_04_03aProkEukCellSize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944800" y="3129120"/>
              <a:ext cx="3773520" cy="28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2664000" y="274788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karyotic cel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 flipH="1" flipV="1">
              <a:off x="2784600" y="3495240"/>
              <a:ext cx="466560" cy="104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2159640" y="3232080"/>
              <a:ext cx="77508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ucleoid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reg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 flipV="1">
              <a:off x="3567240" y="4527720"/>
              <a:ext cx="441360" cy="150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2911320" y="4368960"/>
              <a:ext cx="7322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1"/>
            <p:cNvSpPr/>
            <p:nvPr/>
          </p:nvSpPr>
          <p:spPr>
            <a:xfrm>
              <a:off x="4110840" y="6049800"/>
              <a:ext cx="127476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ukar</a:t>
              </a:r>
              <a:r>
                <a:rPr b="1" lang="en-US" sz="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yotic cel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5597640" y="5391000"/>
              <a:ext cx="236520" cy="608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V="1">
              <a:off x="5842080" y="5197320"/>
              <a:ext cx="71280" cy="7826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5772600" y="6046920"/>
              <a:ext cx="9198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rganel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 flipH="1" rot="16200000">
              <a:off x="5835240" y="3479760"/>
              <a:ext cx="18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lorized TEM 15,000 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1118160" y="59864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3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karyotic cells are small, relatively simple cells that do not have a membrane-bound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46124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3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26"/>
          <p:cNvGrpSpPr/>
          <p:nvPr/>
        </p:nvGrpSpPr>
        <p:grpSpPr>
          <a:xfrm>
            <a:off x="2000880" y="2112840"/>
            <a:ext cx="5183640" cy="4191120"/>
            <a:chOff x="2000880" y="2112840"/>
            <a:chExt cx="5183640" cy="4191120"/>
          </a:xfrm>
        </p:grpSpPr>
        <p:pic>
          <p:nvPicPr>
            <p:cNvPr id="228" name="Picture 5" descr="_x0014_04_03bProkCell_U.jpg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786040" y="2112840"/>
              <a:ext cx="357336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Line 6"/>
            <p:cNvSpPr/>
            <p:nvPr/>
          </p:nvSpPr>
          <p:spPr>
            <a:xfrm flipH="1" flipV="1">
              <a:off x="4264200" y="3139920"/>
              <a:ext cx="1123920" cy="9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 flipH="1" flipV="1">
              <a:off x="4265640" y="3146040"/>
              <a:ext cx="91584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3765600" y="2820960"/>
              <a:ext cx="1089000" cy="5202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Prokar</a:t>
              </a:r>
              <a:r>
                <a:rPr b="0" lang="en-US" sz="400" spc="-1" strike="noStrike">
                  <a:solidFill>
                    <a:srgbClr val="001933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yotic</a:t>
              </a:r>
              <a:br>
                <a:rPr sz="1400"/>
              </a:b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flagel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 flipH="1" flipV="1">
              <a:off x="3447720" y="4048200"/>
              <a:ext cx="1057320" cy="2001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2445840" y="3389400"/>
              <a:ext cx="10724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Ribos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 flipH="1" flipV="1">
              <a:off x="3561840" y="3714480"/>
              <a:ext cx="1390680" cy="6094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2"/>
            <p:cNvSpPr/>
            <p:nvPr/>
          </p:nvSpPr>
          <p:spPr>
            <a:xfrm>
              <a:off x="2540160" y="3836880"/>
              <a:ext cx="8344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Caps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383920" y="4246560"/>
              <a:ext cx="8438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Cell wal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H="1" flipV="1">
              <a:off x="3297240" y="4370400"/>
              <a:ext cx="760320" cy="287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 flipV="1">
              <a:off x="3057480" y="4678560"/>
              <a:ext cx="752400" cy="226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6"/>
            <p:cNvSpPr/>
            <p:nvPr/>
          </p:nvSpPr>
          <p:spPr>
            <a:xfrm>
              <a:off x="2000880" y="4619520"/>
              <a:ext cx="1081440" cy="5202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Plasma</a:t>
              </a:r>
              <a:br>
                <a:rPr sz="1400"/>
              </a:b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4348080" y="4743360"/>
              <a:ext cx="954000" cy="506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5220720" y="5187960"/>
              <a:ext cx="196380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933"/>
                  </a:solidFill>
                  <a:latin typeface="Arial"/>
                </a:rPr>
                <a:t>Nucleoid region (DNA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>
              <a:off x="2394000" y="5821560"/>
              <a:ext cx="45036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933"/>
                  </a:solidFill>
                  <a:latin typeface="Arial"/>
                </a:rPr>
                <a:t>Pi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2786040" y="5759640"/>
              <a:ext cx="355680" cy="21888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24" h="138">
                  <a:moveTo>
                    <a:pt x="160" y="0"/>
                  </a:moveTo>
                  <a:lnTo>
                    <a:pt x="0" y="138"/>
                  </a:lnTo>
                  <a:lnTo>
                    <a:pt x="224" y="112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TextBox 20"/>
          <p:cNvSpPr/>
          <p:nvPr/>
        </p:nvSpPr>
        <p:spPr>
          <a:xfrm>
            <a:off x="15480" y="2152800"/>
            <a:ext cx="2867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 wall (orange) prot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bosomes – protein fac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sma membrane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sule – not found in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li – surface attach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gella – m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cleoid region – D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: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685800"/>
            <a:ext cx="85341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is the nucleoid region of a prokaryotic cell unlike the nucleus of a Eukaryotic cel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Planner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1 – 4.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4 Eukaryotic cells are 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tioned into functional 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karyotic cell is more complex and is  distinguished by the presence of a true nucle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s form the boundaries of man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entalizing the interior of the cell and facilitating a variety of metabolic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Art of Looking at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scientists who ob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d cells made detailed sketches of what they s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_x000e_3716004002.jpg         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1320840" y="2687760"/>
            <a:ext cx="3252600" cy="371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_x0019_04_UN51Cajalretina_UP.jpg                                      0050AA83_x0003_203                            BE5F24FD:"/>
          <p:cNvPicPr/>
          <p:nvPr/>
        </p:nvPicPr>
        <p:blipFill>
          <a:blip r:embed="rId2"/>
          <a:stretch/>
        </p:blipFill>
        <p:spPr>
          <a:xfrm>
            <a:off x="4753080" y="2577960"/>
            <a:ext cx="2504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Key Term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685800"/>
            <a:ext cx="8534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ytoplas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the fluid filled region between the plasma membrane and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rganel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structures along with the nucleus that have specific fu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ellular Metabolism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the chemical activities of the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2"/>
          <p:cNvGrpSpPr/>
          <p:nvPr/>
        </p:nvGrpSpPr>
        <p:grpSpPr>
          <a:xfrm>
            <a:off x="1412280" y="1916280"/>
            <a:ext cx="7020360" cy="4268880"/>
            <a:chOff x="1412280" y="1916280"/>
            <a:chExt cx="7020360" cy="4268880"/>
          </a:xfrm>
        </p:grpSpPr>
        <p:pic>
          <p:nvPicPr>
            <p:cNvPr id="254" name="Picture 5" descr="_x0016_04_04aAnimalCell_U.jpg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485880" y="1916280"/>
              <a:ext cx="3681360" cy="39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Line 6"/>
            <p:cNvSpPr/>
            <p:nvPr/>
          </p:nvSpPr>
          <p:spPr>
            <a:xfrm flipV="1">
              <a:off x="5913360" y="2550960"/>
              <a:ext cx="618840" cy="35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6197400" y="22892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8"/>
            <p:cNvSpPr/>
            <p:nvPr/>
          </p:nvSpPr>
          <p:spPr>
            <a:xfrm>
              <a:off x="1886760" y="1967040"/>
              <a:ext cx="13586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Smooth 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 flipH="1" flipV="1">
              <a:off x="3238200" y="2143080"/>
              <a:ext cx="1363680" cy="838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2610000" y="2451240"/>
              <a:ext cx="889560" cy="5508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oug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 flipH="1" flipV="1">
              <a:off x="3038400" y="3036600"/>
              <a:ext cx="1630080" cy="6476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6673680" y="3807000"/>
              <a:ext cx="663480" cy="523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6551280" y="4059360"/>
              <a:ext cx="795600" cy="280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5802120" y="4386240"/>
              <a:ext cx="1512720" cy="3571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5783040" y="5006880"/>
              <a:ext cx="1455840" cy="327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>
              <a:off x="5072040" y="4919760"/>
              <a:ext cx="2138040" cy="861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539480" y="4222800"/>
              <a:ext cx="8132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Riboso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7380720" y="4573440"/>
              <a:ext cx="7430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Golgi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7192800" y="5143680"/>
              <a:ext cx="12398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lasma membran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7187040" y="5630760"/>
              <a:ext cx="9730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Mitochondr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 flipH="1">
              <a:off x="3323520" y="3478320"/>
              <a:ext cx="422280" cy="1126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 flipH="1">
              <a:off x="3339720" y="4040280"/>
              <a:ext cx="688680" cy="74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 flipH="1">
              <a:off x="3232080" y="4386240"/>
              <a:ext cx="1179360" cy="150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AutoShape 25"/>
            <p:cNvSpPr/>
            <p:nvPr/>
          </p:nvSpPr>
          <p:spPr>
            <a:xfrm>
              <a:off x="2361960" y="3587760"/>
              <a:ext cx="228600" cy="1033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033560"/>
                <a:gd name="textAreaBottom" fmla="*/ 99396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23"/>
                    <a:pt x="10800" y="2645"/>
                  </a:cubicBezTo>
                  <a:lnTo>
                    <a:pt x="10800" y="8155"/>
                  </a:lnTo>
                  <a:cubicBezTo>
                    <a:pt x="10800" y="9478"/>
                    <a:pt x="5400" y="10800"/>
                    <a:pt x="0" y="10800"/>
                  </a:cubicBezTo>
                  <a:cubicBezTo>
                    <a:pt x="5400" y="10800"/>
                    <a:pt x="10800" y="12123"/>
                    <a:pt x="10800" y="13445"/>
                  </a:cubicBezTo>
                  <a:lnTo>
                    <a:pt x="10800" y="18955"/>
                  </a:lnTo>
                  <a:cubicBezTo>
                    <a:pt x="10800" y="2027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2619360" y="3522600"/>
              <a:ext cx="7264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lagel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27"/>
            <p:cNvSpPr/>
            <p:nvPr/>
          </p:nvSpPr>
          <p:spPr>
            <a:xfrm>
              <a:off x="1565640" y="3817800"/>
              <a:ext cx="8193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ot in most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plant ce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28"/>
            <p:cNvSpPr/>
            <p:nvPr/>
          </p:nvSpPr>
          <p:spPr>
            <a:xfrm>
              <a:off x="2626560" y="3976560"/>
              <a:ext cx="7581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Lyso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2613960" y="4408560"/>
              <a:ext cx="68508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ntri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0"/>
            <p:cNvSpPr/>
            <p:nvPr/>
          </p:nvSpPr>
          <p:spPr>
            <a:xfrm>
              <a:off x="2323800" y="5106960"/>
              <a:ext cx="238320" cy="1027080"/>
            </a:xfrm>
            <a:custGeom>
              <a:avLst/>
              <a:gdLst>
                <a:gd name="textAreaLeft" fmla="*/ 152280 w 238320"/>
                <a:gd name="textAreaRight" fmla="*/ 238680 w 238320"/>
                <a:gd name="textAreaTop" fmla="*/ 40680 h 1027080"/>
                <a:gd name="textAreaBottom" fmla="*/ 98640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8"/>
                    <a:pt x="10800" y="2755"/>
                  </a:cubicBezTo>
                  <a:lnTo>
                    <a:pt x="10800" y="8045"/>
                  </a:lnTo>
                  <a:cubicBezTo>
                    <a:pt x="10800" y="9423"/>
                    <a:pt x="5400" y="10800"/>
                    <a:pt x="0" y="10800"/>
                  </a:cubicBezTo>
                  <a:cubicBezTo>
                    <a:pt x="5400" y="10800"/>
                    <a:pt x="10800" y="12178"/>
                    <a:pt x="10800" y="13555"/>
                  </a:cubicBezTo>
                  <a:lnTo>
                    <a:pt x="10800" y="18845"/>
                  </a:lnTo>
                  <a:cubicBezTo>
                    <a:pt x="10800" y="2022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Text Box 31"/>
            <p:cNvSpPr/>
            <p:nvPr/>
          </p:nvSpPr>
          <p:spPr>
            <a:xfrm>
              <a:off x="2620080" y="5035680"/>
              <a:ext cx="8330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2"/>
            <p:cNvSpPr/>
            <p:nvPr/>
          </p:nvSpPr>
          <p:spPr>
            <a:xfrm>
              <a:off x="1412280" y="5452920"/>
              <a:ext cx="91224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ytoskelet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33"/>
            <p:cNvSpPr/>
            <p:nvPr/>
          </p:nvSpPr>
          <p:spPr>
            <a:xfrm>
              <a:off x="2605320" y="5362560"/>
              <a:ext cx="88164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diat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34"/>
            <p:cNvSpPr/>
            <p:nvPr/>
          </p:nvSpPr>
          <p:spPr>
            <a:xfrm>
              <a:off x="2600640" y="5938920"/>
              <a:ext cx="93060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35"/>
            <p:cNvSpPr/>
            <p:nvPr/>
          </p:nvSpPr>
          <p:spPr>
            <a:xfrm flipH="1">
              <a:off x="3241080" y="4657680"/>
              <a:ext cx="955800" cy="1508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6"/>
            <p:cNvSpPr/>
            <p:nvPr/>
          </p:nvSpPr>
          <p:spPr>
            <a:xfrm>
              <a:off x="2335680" y="4721400"/>
              <a:ext cx="8481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eroxi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H="1">
              <a:off x="3409920" y="4818240"/>
              <a:ext cx="814320" cy="318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 flipH="1">
              <a:off x="3427200" y="4827600"/>
              <a:ext cx="928800" cy="638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 flipH="1">
              <a:off x="3522600" y="5006880"/>
              <a:ext cx="768240" cy="1020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typical animal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ains a variety of membranous organel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1"/>
          <p:cNvSpPr/>
          <p:nvPr/>
        </p:nvSpPr>
        <p:spPr>
          <a:xfrm>
            <a:off x="80100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4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plant cell has some structures that an animal cell 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as chloroplasts and a rigid cell w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41"/>
          <p:cNvGrpSpPr/>
          <p:nvPr/>
        </p:nvGrpSpPr>
        <p:grpSpPr>
          <a:xfrm>
            <a:off x="1452240" y="2522520"/>
            <a:ext cx="6949080" cy="3878280"/>
            <a:chOff x="1452240" y="2522520"/>
            <a:chExt cx="6949080" cy="3878280"/>
          </a:xfrm>
        </p:grpSpPr>
        <p:pic>
          <p:nvPicPr>
            <p:cNvPr id="292" name="Picture 5" descr="_x0015_04_04bPlantCell_U.jpg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348000" y="2567160"/>
              <a:ext cx="3011400" cy="38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6"/>
            <p:cNvSpPr/>
            <p:nvPr/>
          </p:nvSpPr>
          <p:spPr>
            <a:xfrm>
              <a:off x="2050920" y="4211640"/>
              <a:ext cx="139680" cy="79848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0520 h 798480"/>
                <a:gd name="textAreaBottom" fmla="*/ 77796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2399760" y="4132440"/>
              <a:ext cx="61668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Central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vacu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1452240" y="4224240"/>
              <a:ext cx="5511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ot in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animal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l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397600" y="4519440"/>
              <a:ext cx="81936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405880" y="4773600"/>
              <a:ext cx="64872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ll wal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2429280" y="3692520"/>
              <a:ext cx="74304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Golgi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 flipH="1">
              <a:off x="3112920" y="3983040"/>
              <a:ext cx="8208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42960" y="2674800"/>
              <a:ext cx="63792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H="1" flipV="1">
              <a:off x="3027240" y="2828520"/>
              <a:ext cx="128736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V="1">
              <a:off x="5046480" y="3043080"/>
              <a:ext cx="0" cy="44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6350760" y="3900600"/>
              <a:ext cx="8330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7489080" y="4226040"/>
              <a:ext cx="9122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ytoskelet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6321600" y="4195800"/>
              <a:ext cx="881640" cy="39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diat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9"/>
            <p:cNvSpPr/>
            <p:nvPr/>
          </p:nvSpPr>
          <p:spPr>
            <a:xfrm>
              <a:off x="6296400" y="4651200"/>
              <a:ext cx="93060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20"/>
            <p:cNvSpPr/>
            <p:nvPr/>
          </p:nvSpPr>
          <p:spPr>
            <a:xfrm>
              <a:off x="7286400" y="3886200"/>
              <a:ext cx="181080" cy="1009800"/>
            </a:xfrm>
            <a:custGeom>
              <a:avLst/>
              <a:gdLst>
                <a:gd name="textAreaLeft" fmla="*/ 0 w 181080"/>
                <a:gd name="textAreaRight" fmla="*/ 65520 w 181080"/>
                <a:gd name="textAreaTop" fmla="*/ 32760 h 1009800"/>
                <a:gd name="textAreaBottom" fmla="*/ 977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25"/>
                    <a:pt x="10800" y="2249"/>
                  </a:cubicBezTo>
                  <a:lnTo>
                    <a:pt x="10800" y="8551"/>
                  </a:lnTo>
                  <a:cubicBezTo>
                    <a:pt x="10800" y="9676"/>
                    <a:pt x="16200" y="10800"/>
                    <a:pt x="21600" y="10800"/>
                  </a:cubicBezTo>
                  <a:cubicBezTo>
                    <a:pt x="16200" y="10800"/>
                    <a:pt x="10800" y="11925"/>
                    <a:pt x="10800" y="13049"/>
                  </a:cubicBezTo>
                  <a:lnTo>
                    <a:pt x="10800" y="19351"/>
                  </a:lnTo>
                  <a:cubicBezTo>
                    <a:pt x="10800" y="20476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>
              <a:off x="5430600" y="4003560"/>
              <a:ext cx="9777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V="1">
              <a:off x="5135400" y="4303800"/>
              <a:ext cx="1243080" cy="101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 flipV="1">
              <a:off x="5648040" y="4606560"/>
              <a:ext cx="71136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24"/>
            <p:cNvSpPr/>
            <p:nvPr/>
          </p:nvSpPr>
          <p:spPr>
            <a:xfrm>
              <a:off x="5285160" y="311472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boso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25"/>
            <p:cNvSpPr/>
            <p:nvPr/>
          </p:nvSpPr>
          <p:spPr>
            <a:xfrm>
              <a:off x="5999400" y="3332160"/>
              <a:ext cx="8895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Smoot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V="1">
              <a:off x="5251320" y="3416040"/>
              <a:ext cx="770040" cy="2062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 flipV="1">
              <a:off x="5074920" y="3268440"/>
              <a:ext cx="255600" cy="306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V="1">
              <a:off x="5135400" y="3252600"/>
              <a:ext cx="209520" cy="363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H="1">
              <a:off x="3057120" y="4062240"/>
              <a:ext cx="1199880" cy="3384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3246120" y="4438440"/>
              <a:ext cx="933480" cy="191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 flipV="1">
              <a:off x="3085920" y="4730400"/>
              <a:ext cx="906480" cy="165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2"/>
            <p:cNvSpPr/>
            <p:nvPr/>
          </p:nvSpPr>
          <p:spPr>
            <a:xfrm>
              <a:off x="2176920" y="5407200"/>
              <a:ext cx="97308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Mitochondr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33"/>
            <p:cNvSpPr/>
            <p:nvPr/>
          </p:nvSpPr>
          <p:spPr>
            <a:xfrm>
              <a:off x="2145240" y="5692680"/>
              <a:ext cx="84816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eroxiso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34"/>
            <p:cNvSpPr/>
            <p:nvPr/>
          </p:nvSpPr>
          <p:spPr>
            <a:xfrm>
              <a:off x="1983960" y="5958000"/>
              <a:ext cx="1239840" cy="24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Plasma membran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H="1">
              <a:off x="3163680" y="4694400"/>
              <a:ext cx="1427040" cy="7952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V="1">
              <a:off x="3315960" y="4887720"/>
              <a:ext cx="1111320" cy="828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V="1">
              <a:off x="3276360" y="5141520"/>
              <a:ext cx="1328760" cy="9162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38"/>
            <p:cNvSpPr/>
            <p:nvPr/>
          </p:nvSpPr>
          <p:spPr>
            <a:xfrm>
              <a:off x="4907160" y="2522520"/>
              <a:ext cx="889560" cy="550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ough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endoplasmic</a:t>
              </a:r>
              <a:br>
                <a:rPr sz="1000"/>
              </a:br>
              <a:r>
                <a:rPr b="0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reticul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801000" y="5999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4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ORGANELLES OF THE ENDOMEMBRANE SYSTEM</a:t>
            </a:r>
            <a:endParaRPr b="1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6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5 The nucleus is the cell’s genetic control ce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rgest organelle is usually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eparated from the cytoplasm by the nuclear enve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NA (chromati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cleol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job is to make m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ucleus is the cellular control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aining the cell’s DNA, which directs cellular activiti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22"/>
          <p:cNvGrpSpPr/>
          <p:nvPr/>
        </p:nvGrpSpPr>
        <p:grpSpPr>
          <a:xfrm>
            <a:off x="2662200" y="2338560"/>
            <a:ext cx="5778000" cy="4056480"/>
            <a:chOff x="2662200" y="2338560"/>
            <a:chExt cx="5778000" cy="4056480"/>
          </a:xfrm>
        </p:grpSpPr>
        <p:pic>
          <p:nvPicPr>
            <p:cNvPr id="331" name="Picture 5" descr="_x0014_04_05NucleusER_U.jpg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238560" y="2349360"/>
              <a:ext cx="4116240" cy="40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5756400" y="2338560"/>
              <a:ext cx="8726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 flipV="1">
              <a:off x="5472000" y="2606760"/>
              <a:ext cx="503280" cy="263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 flipH="1" flipV="1">
              <a:off x="4019400" y="2587320"/>
              <a:ext cx="689040" cy="407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3062160" y="2409840"/>
              <a:ext cx="10022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hromat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0"/>
            <p:cNvSpPr/>
            <p:nvPr/>
          </p:nvSpPr>
          <p:spPr>
            <a:xfrm flipH="1" flipV="1">
              <a:off x="3571920" y="2982600"/>
              <a:ext cx="1257120" cy="577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2662200" y="2795760"/>
              <a:ext cx="9640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H="1" flipV="1">
              <a:off x="3385800" y="3681360"/>
              <a:ext cx="158760" cy="139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812320" y="3484440"/>
              <a:ext cx="5572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P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6319800" y="5487840"/>
              <a:ext cx="0" cy="6051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>
              <a:off x="6170760" y="5838840"/>
              <a:ext cx="149040" cy="254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6"/>
            <p:cNvSpPr/>
            <p:nvPr/>
          </p:nvSpPr>
          <p:spPr>
            <a:xfrm>
              <a:off x="5914800" y="6087960"/>
              <a:ext cx="107244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ibos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>
              <a:off x="6859440" y="5003640"/>
              <a:ext cx="354240" cy="26064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7171200" y="5202360"/>
              <a:ext cx="1269000" cy="733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ugh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ndoplasmic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V="1">
              <a:off x="5881680" y="2982600"/>
              <a:ext cx="912960" cy="893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V="1">
              <a:off x="5881680" y="2970000"/>
              <a:ext cx="922320" cy="711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1"/>
            <p:cNvSpPr/>
            <p:nvPr/>
          </p:nvSpPr>
          <p:spPr>
            <a:xfrm>
              <a:off x="6753240" y="2457360"/>
              <a:ext cx="1506600" cy="733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Two membranes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f nuclear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23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6 O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: Many cell organelles are connected through the endomembran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omembrane system is a collection of membranous organelles call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sci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ose job it is to manufactures and distributes cel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plasmic Ret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ous with the nuclear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work of flattened sacs and tub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7 Smooth endoplasmic reticulum has a variety of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ooth ER  lacks ribosom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nthesizes lipids (Fatty acids, phospholipids, steroid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cesses toxins and drugs in liver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689"/>
              </a:spcBef>
              <a:spcAft>
                <a:spcPts val="55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res and releases calcium ions in muscle ce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1461240" y="3352680"/>
            <a:ext cx="4920120" cy="2941920"/>
            <a:chOff x="1461240" y="3352680"/>
            <a:chExt cx="4920120" cy="2941920"/>
          </a:xfrm>
        </p:grpSpPr>
        <p:pic>
          <p:nvPicPr>
            <p:cNvPr id="352" name="Picture 5" descr="&#13;04_07ER_U.jpg         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76680" y="3448080"/>
              <a:ext cx="2595600" cy="28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6"/>
            <p:cNvSpPr/>
            <p:nvPr/>
          </p:nvSpPr>
          <p:spPr>
            <a:xfrm>
              <a:off x="3152880" y="3352680"/>
              <a:ext cx="7322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Smoot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 flipH="1" flipV="1">
              <a:off x="3688920" y="3535200"/>
              <a:ext cx="646200" cy="3463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2876400" y="3751200"/>
              <a:ext cx="674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 flipH="1" flipV="1">
              <a:off x="3390480" y="3939840"/>
              <a:ext cx="1095480" cy="523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 flipH="1" flipV="1">
              <a:off x="5452560" y="4352400"/>
              <a:ext cx="174600" cy="7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5037120" y="404352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nvelo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5181480" y="5013360"/>
              <a:ext cx="293760" cy="7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226120" y="4848120"/>
              <a:ext cx="237960" cy="23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14"/>
            <p:cNvSpPr/>
            <p:nvPr/>
          </p:nvSpPr>
          <p:spPr>
            <a:xfrm>
              <a:off x="5340240" y="5119560"/>
              <a:ext cx="67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oug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5417640" y="4986360"/>
              <a:ext cx="6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ibosom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3932280" y="5130720"/>
              <a:ext cx="73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mooth 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V="1">
              <a:off x="4260960" y="5311800"/>
              <a:ext cx="0" cy="38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 flipV="1">
              <a:off x="5680080" y="5306760"/>
              <a:ext cx="0" cy="3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9"/>
            <p:cNvSpPr/>
            <p:nvPr/>
          </p:nvSpPr>
          <p:spPr>
            <a:xfrm flipH="1" rot="16200000">
              <a:off x="5715720" y="5622840"/>
              <a:ext cx="111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45,0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21"/>
            <p:cNvSpPr/>
            <p:nvPr/>
          </p:nvSpPr>
          <p:spPr>
            <a:xfrm>
              <a:off x="1461240" y="5999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6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8 Rough endoplasmic reticulum makes membrane and protei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ugh ER  (studded with riboso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es membr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proteins that will be transported to other organelles or secreted by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76560" indent="-34776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example of a secretory protein is insul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somes on the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of the rough 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proteins that are secret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 into membranes, or trans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 in vesicles to other orga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_x0012_04_08RoughER_U.jpg     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3543480" y="2940120"/>
            <a:ext cx="4255920" cy="33764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31"/>
          <p:cNvGrpSpPr/>
          <p:nvPr/>
        </p:nvGrpSpPr>
        <p:grpSpPr>
          <a:xfrm>
            <a:off x="5955840" y="3332160"/>
            <a:ext cx="1992240" cy="1471680"/>
            <a:chOff x="5955840" y="3332160"/>
            <a:chExt cx="1992240" cy="1471680"/>
          </a:xfrm>
        </p:grpSpPr>
        <p:sp>
          <p:nvSpPr>
            <p:cNvPr id="372" name="Text Box 6"/>
            <p:cNvSpPr/>
            <p:nvPr/>
          </p:nvSpPr>
          <p:spPr>
            <a:xfrm>
              <a:off x="6749280" y="3979800"/>
              <a:ext cx="1198800" cy="82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Secretory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(glyco-) protein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side trans-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ort ves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5955840" y="3332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Group 28"/>
          <p:cNvGrpSpPr/>
          <p:nvPr/>
        </p:nvGrpSpPr>
        <p:grpSpPr>
          <a:xfrm>
            <a:off x="4367880" y="3182760"/>
            <a:ext cx="3369960" cy="1975320"/>
            <a:chOff x="4367880" y="3182760"/>
            <a:chExt cx="3369960" cy="1975320"/>
          </a:xfrm>
        </p:grpSpPr>
        <p:sp>
          <p:nvSpPr>
            <p:cNvPr id="375" name="Text Box 15"/>
            <p:cNvSpPr/>
            <p:nvPr/>
          </p:nvSpPr>
          <p:spPr>
            <a:xfrm>
              <a:off x="4367880" y="3182760"/>
              <a:ext cx="134352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buds of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6"/>
            <p:cNvSpPr/>
            <p:nvPr/>
          </p:nvSpPr>
          <p:spPr>
            <a:xfrm flipH="1" flipV="1">
              <a:off x="5043600" y="3511440"/>
              <a:ext cx="496800" cy="5508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Group 26"/>
            <p:cNvGrpSpPr/>
            <p:nvPr/>
          </p:nvGrpSpPr>
          <p:grpSpPr>
            <a:xfrm>
              <a:off x="5878080" y="4667400"/>
              <a:ext cx="1859760" cy="490680"/>
              <a:chOff x="5878080" y="4667400"/>
              <a:chExt cx="1859760" cy="490680"/>
            </a:xfrm>
          </p:grpSpPr>
          <p:sp>
            <p:nvSpPr>
              <p:cNvPr id="378" name="Line 7"/>
              <p:cNvSpPr/>
              <p:nvPr/>
            </p:nvSpPr>
            <p:spPr>
              <a:xfrm>
                <a:off x="5924520" y="5021280"/>
                <a:ext cx="83808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Text Box 8"/>
              <p:cNvSpPr/>
              <p:nvPr/>
            </p:nvSpPr>
            <p:spPr>
              <a:xfrm>
                <a:off x="6740280" y="4881600"/>
                <a:ext cx="997560" cy="276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Sugar chai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18"/>
              <p:cNvSpPr/>
              <p:nvPr/>
            </p:nvSpPr>
            <p:spPr>
              <a:xfrm>
                <a:off x="5878080" y="4667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25"/>
          <p:cNvGrpSpPr/>
          <p:nvPr/>
        </p:nvGrpSpPr>
        <p:grpSpPr>
          <a:xfrm>
            <a:off x="4839840" y="5364000"/>
            <a:ext cx="2848680" cy="698760"/>
            <a:chOff x="4839840" y="5364000"/>
            <a:chExt cx="2848680" cy="698760"/>
          </a:xfrm>
        </p:grpSpPr>
        <p:sp>
          <p:nvSpPr>
            <p:cNvPr id="382" name="Line 9"/>
            <p:cNvSpPr/>
            <p:nvPr/>
          </p:nvSpPr>
          <p:spPr>
            <a:xfrm>
              <a:off x="5618160" y="5927760"/>
              <a:ext cx="120492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6771600" y="5786280"/>
              <a:ext cx="91692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5095080" y="5369040"/>
              <a:ext cx="103860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lycoprote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9"/>
            <p:cNvSpPr/>
            <p:nvPr/>
          </p:nvSpPr>
          <p:spPr>
            <a:xfrm>
              <a:off x="4839840" y="5364000"/>
              <a:ext cx="26604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4"/>
          <p:cNvGrpSpPr/>
          <p:nvPr/>
        </p:nvGrpSpPr>
        <p:grpSpPr>
          <a:xfrm>
            <a:off x="3620520" y="3629160"/>
            <a:ext cx="981000" cy="2186280"/>
            <a:chOff x="3620520" y="3629160"/>
            <a:chExt cx="981000" cy="2186280"/>
          </a:xfrm>
        </p:grpSpPr>
        <p:sp>
          <p:nvSpPr>
            <p:cNvPr id="387" name="Text Box 13"/>
            <p:cNvSpPr/>
            <p:nvPr/>
          </p:nvSpPr>
          <p:spPr>
            <a:xfrm>
              <a:off x="3620520" y="5538960"/>
              <a:ext cx="98100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olypepti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Group 23"/>
            <p:cNvGrpSpPr/>
            <p:nvPr/>
          </p:nvGrpSpPr>
          <p:grpSpPr>
            <a:xfrm>
              <a:off x="3719160" y="3629160"/>
              <a:ext cx="867960" cy="1565280"/>
              <a:chOff x="3719160" y="3629160"/>
              <a:chExt cx="867960" cy="1565280"/>
            </a:xfrm>
          </p:grpSpPr>
          <p:sp>
            <p:nvSpPr>
              <p:cNvPr id="389" name="Line 11"/>
              <p:cNvSpPr/>
              <p:nvPr/>
            </p:nvSpPr>
            <p:spPr>
              <a:xfrm flipV="1">
                <a:off x="4137120" y="3862080"/>
                <a:ext cx="0" cy="67932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2"/>
              <p:cNvSpPr/>
              <p:nvPr/>
            </p:nvSpPr>
            <p:spPr>
              <a:xfrm>
                <a:off x="3719160" y="3629160"/>
                <a:ext cx="867960" cy="276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Ribos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0"/>
              <p:cNvSpPr/>
              <p:nvPr/>
            </p:nvSpPr>
            <p:spPr>
              <a:xfrm>
                <a:off x="4019040" y="49179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Text Box 22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 The Golgi apparatus finishes, s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, and ships cel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cks of membranous sacs receive and modify ER products then ship them to other organelles or the cell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1461240" y="59990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5"/>
          <p:cNvGrpSpPr/>
          <p:nvPr/>
        </p:nvGrpSpPr>
        <p:grpSpPr>
          <a:xfrm>
            <a:off x="2838240" y="3441600"/>
            <a:ext cx="5171760" cy="2891160"/>
            <a:chOff x="2838240" y="3441600"/>
            <a:chExt cx="5171760" cy="2891160"/>
          </a:xfrm>
        </p:grpSpPr>
        <p:pic>
          <p:nvPicPr>
            <p:cNvPr id="396" name="Picture 5" descr="_x001b_04_09GolgiApparatus_CNL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892680" y="3441600"/>
              <a:ext cx="395424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Line 6"/>
            <p:cNvSpPr/>
            <p:nvPr/>
          </p:nvSpPr>
          <p:spPr>
            <a:xfrm flipV="1">
              <a:off x="6804000" y="4197240"/>
              <a:ext cx="0" cy="44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6180840" y="394668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Text Box 8"/>
            <p:cNvSpPr/>
            <p:nvPr/>
          </p:nvSpPr>
          <p:spPr>
            <a:xfrm flipH="1" rot="16200000">
              <a:off x="7180920" y="5032080"/>
              <a:ext cx="138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130,0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040720" y="5622840"/>
              <a:ext cx="99468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vesicle from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he Golg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 flipH="1">
              <a:off x="4227480" y="5313240"/>
              <a:ext cx="549360" cy="60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13"/>
            <p:cNvSpPr/>
            <p:nvPr/>
          </p:nvSpPr>
          <p:spPr>
            <a:xfrm>
              <a:off x="3249720" y="5873760"/>
              <a:ext cx="15296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hipping” side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f 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 flipH="1" flipV="1">
              <a:off x="3794040" y="5297400"/>
              <a:ext cx="324000" cy="52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 flipH="1" flipV="1">
              <a:off x="3833640" y="4870080"/>
              <a:ext cx="192240" cy="11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 flipH="1" flipV="1">
              <a:off x="4220640" y="4532400"/>
              <a:ext cx="349560" cy="420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5045040" y="3951360"/>
              <a:ext cx="79560" cy="16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18"/>
            <p:cNvSpPr/>
            <p:nvPr/>
          </p:nvSpPr>
          <p:spPr>
            <a:xfrm>
              <a:off x="4964400" y="4106880"/>
              <a:ext cx="8618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olgi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9"/>
            <p:cNvSpPr/>
            <p:nvPr/>
          </p:nvSpPr>
          <p:spPr>
            <a:xfrm>
              <a:off x="2914560" y="3786120"/>
              <a:ext cx="159084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eceiving” side of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20"/>
            <p:cNvSpPr/>
            <p:nvPr/>
          </p:nvSpPr>
          <p:spPr>
            <a:xfrm>
              <a:off x="3125880" y="4324320"/>
              <a:ext cx="83448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ransport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rom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2838240" y="5133960"/>
              <a:ext cx="99468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New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orm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4"/>
            <p:cNvSpPr/>
            <p:nvPr/>
          </p:nvSpPr>
          <p:spPr>
            <a:xfrm>
              <a:off x="5435640" y="5181480"/>
              <a:ext cx="830160" cy="3715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523" h="234">
                  <a:moveTo>
                    <a:pt x="22" y="85"/>
                  </a:moveTo>
                  <a:lnTo>
                    <a:pt x="0" y="234"/>
                  </a:lnTo>
                  <a:lnTo>
                    <a:pt x="523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Box 20"/>
          <p:cNvSpPr/>
          <p:nvPr/>
        </p:nvSpPr>
        <p:spPr>
          <a:xfrm>
            <a:off x="142200" y="3324240"/>
            <a:ext cx="289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is a mole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re house 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ishing factor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ce inside it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 a transport vesi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early sketches revealed an im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nt relationship between art and biology, the most visual of the sc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_x001e_04_UN50KadinskyPainting_UP.jpg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3100320" y="2612880"/>
            <a:ext cx="2952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0 Lysosomes are digestive comp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ments within a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are sacs of enzymes that function in digestion within a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460520" y="61642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6" descr="_x001e_04_10aLysosomStructFxn_3_U.jpg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2905200" y="3178080"/>
            <a:ext cx="33433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41"/>
          <p:cNvGrpSpPr/>
          <p:nvPr/>
        </p:nvGrpSpPr>
        <p:grpSpPr>
          <a:xfrm>
            <a:off x="5241960" y="4065480"/>
            <a:ext cx="849240" cy="276840"/>
            <a:chOff x="5241960" y="4065480"/>
            <a:chExt cx="849240" cy="276840"/>
          </a:xfrm>
        </p:grpSpPr>
        <p:sp>
          <p:nvSpPr>
            <p:cNvPr id="417" name="Text Box 7"/>
            <p:cNvSpPr/>
            <p:nvPr/>
          </p:nvSpPr>
          <p:spPr>
            <a:xfrm>
              <a:off x="5402160" y="4065480"/>
              <a:ext cx="689040" cy="2768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Golgi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apparatus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 flipV="1">
              <a:off x="5241960" y="4195440"/>
              <a:ext cx="247680" cy="12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47"/>
          <p:cNvGrpSpPr/>
          <p:nvPr/>
        </p:nvGrpSpPr>
        <p:grpSpPr>
          <a:xfrm>
            <a:off x="3301920" y="4129200"/>
            <a:ext cx="925560" cy="368280"/>
            <a:chOff x="3301920" y="4129200"/>
            <a:chExt cx="925560" cy="368280"/>
          </a:xfrm>
        </p:grpSpPr>
        <p:sp>
          <p:nvSpPr>
            <p:cNvPr id="420" name="Line 12"/>
            <p:cNvSpPr/>
            <p:nvPr/>
          </p:nvSpPr>
          <p:spPr>
            <a:xfrm>
              <a:off x="3301920" y="4265640"/>
              <a:ext cx="18900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3425760" y="4129200"/>
              <a:ext cx="801720" cy="3682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Plasma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14"/>
          <p:cNvSpPr/>
          <p:nvPr/>
        </p:nvSpPr>
        <p:spPr>
          <a:xfrm>
            <a:off x="2857680" y="5033880"/>
            <a:ext cx="59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Food”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45"/>
          <p:cNvGrpSpPr/>
          <p:nvPr/>
        </p:nvGrpSpPr>
        <p:grpSpPr>
          <a:xfrm>
            <a:off x="4137120" y="5681520"/>
            <a:ext cx="622080" cy="386640"/>
            <a:chOff x="4137120" y="5681520"/>
            <a:chExt cx="622080" cy="386640"/>
          </a:xfrm>
        </p:grpSpPr>
        <p:sp>
          <p:nvSpPr>
            <p:cNvPr id="424" name="Line 16"/>
            <p:cNvSpPr/>
            <p:nvPr/>
          </p:nvSpPr>
          <p:spPr>
            <a:xfrm>
              <a:off x="4451400" y="5681520"/>
              <a:ext cx="0" cy="131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4137120" y="5791320"/>
              <a:ext cx="622080" cy="2768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Food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vacuol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18"/>
          <p:cNvSpPr/>
          <p:nvPr/>
        </p:nvSpPr>
        <p:spPr>
          <a:xfrm>
            <a:off x="5075280" y="5460840"/>
            <a:ext cx="183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3"/>
          <p:cNvGrpSpPr/>
          <p:nvPr/>
        </p:nvGrpSpPr>
        <p:grpSpPr>
          <a:xfrm>
            <a:off x="4865760" y="4799160"/>
            <a:ext cx="784440" cy="699480"/>
            <a:chOff x="4865760" y="4799160"/>
            <a:chExt cx="784440" cy="699480"/>
          </a:xfrm>
        </p:grpSpPr>
        <p:sp>
          <p:nvSpPr>
            <p:cNvPr id="428" name="Line 20"/>
            <p:cNvSpPr/>
            <p:nvPr/>
          </p:nvSpPr>
          <p:spPr>
            <a:xfrm flipH="1">
              <a:off x="5172120" y="5070600"/>
              <a:ext cx="188640" cy="2253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1"/>
            <p:cNvSpPr/>
            <p:nvPr/>
          </p:nvSpPr>
          <p:spPr>
            <a:xfrm>
              <a:off x="4925880" y="5259240"/>
              <a:ext cx="239760" cy="32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36"/>
            <p:cNvGrpSpPr/>
            <p:nvPr/>
          </p:nvGrpSpPr>
          <p:grpSpPr>
            <a:xfrm>
              <a:off x="4865760" y="4799160"/>
              <a:ext cx="784440" cy="699480"/>
              <a:chOff x="4865760" y="4799160"/>
              <a:chExt cx="784440" cy="699480"/>
            </a:xfrm>
          </p:grpSpPr>
          <p:sp>
            <p:nvSpPr>
              <p:cNvPr id="431" name="Text Box 19"/>
              <p:cNvSpPr/>
              <p:nvPr/>
            </p:nvSpPr>
            <p:spPr>
              <a:xfrm>
                <a:off x="5047200" y="5313240"/>
                <a:ext cx="603000" cy="1854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3366"/>
                    </a:solidFill>
                    <a:latin typeface="Arial"/>
                  </a:rPr>
                  <a:t>Lysosomes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26"/>
              <p:cNvSpPr/>
              <p:nvPr/>
            </p:nvSpPr>
            <p:spPr>
              <a:xfrm>
                <a:off x="4865760" y="479916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42"/>
          <p:cNvGrpSpPr/>
          <p:nvPr/>
        </p:nvGrpSpPr>
        <p:grpSpPr>
          <a:xfrm>
            <a:off x="5587920" y="4602240"/>
            <a:ext cx="689040" cy="1240920"/>
            <a:chOff x="5587920" y="4602240"/>
            <a:chExt cx="689040" cy="1240920"/>
          </a:xfrm>
        </p:grpSpPr>
        <p:sp>
          <p:nvSpPr>
            <p:cNvPr id="434" name="Line 10"/>
            <p:cNvSpPr/>
            <p:nvPr/>
          </p:nvSpPr>
          <p:spPr>
            <a:xfrm flipV="1">
              <a:off x="5821200" y="5183280"/>
              <a:ext cx="0" cy="1872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38"/>
            <p:cNvGrpSpPr/>
            <p:nvPr/>
          </p:nvGrpSpPr>
          <p:grpSpPr>
            <a:xfrm>
              <a:off x="5587920" y="4602240"/>
              <a:ext cx="689040" cy="1240920"/>
              <a:chOff x="5587920" y="4602240"/>
              <a:chExt cx="689040" cy="1240920"/>
            </a:xfrm>
          </p:grpSpPr>
          <p:sp>
            <p:nvSpPr>
              <p:cNvPr id="436" name="Text Box 9"/>
              <p:cNvSpPr/>
              <p:nvPr/>
            </p:nvSpPr>
            <p:spPr>
              <a:xfrm>
                <a:off x="5587920" y="4602240"/>
                <a:ext cx="689040" cy="551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Lysosom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engulfing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damag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organelle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Text Box 27"/>
              <p:cNvSpPr/>
              <p:nvPr/>
            </p:nvSpPr>
            <p:spPr>
              <a:xfrm>
                <a:off x="5853240" y="565776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4"/>
          <p:cNvGrpSpPr/>
          <p:nvPr/>
        </p:nvGrpSpPr>
        <p:grpSpPr>
          <a:xfrm>
            <a:off x="4900680" y="5734080"/>
            <a:ext cx="882720" cy="434880"/>
            <a:chOff x="4900680" y="5734080"/>
            <a:chExt cx="882720" cy="434880"/>
          </a:xfrm>
        </p:grpSpPr>
        <p:sp>
          <p:nvSpPr>
            <p:cNvPr id="439" name="Line 23"/>
            <p:cNvSpPr/>
            <p:nvPr/>
          </p:nvSpPr>
          <p:spPr>
            <a:xfrm flipV="1">
              <a:off x="5290920" y="5983200"/>
              <a:ext cx="217440" cy="1857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"/>
            <p:cNvSpPr/>
            <p:nvPr/>
          </p:nvSpPr>
          <p:spPr>
            <a:xfrm flipH="1" flipV="1">
              <a:off x="5508360" y="5984640"/>
              <a:ext cx="238320" cy="9036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Group 37"/>
            <p:cNvGrpSpPr/>
            <p:nvPr/>
          </p:nvGrpSpPr>
          <p:grpSpPr>
            <a:xfrm>
              <a:off x="4900680" y="5734080"/>
              <a:ext cx="882720" cy="274320"/>
              <a:chOff x="4900680" y="5734080"/>
              <a:chExt cx="882720" cy="27432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284080" y="5823000"/>
                <a:ext cx="499320" cy="1854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Digestion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900680" y="573408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6"/>
          <p:cNvGrpSpPr/>
          <p:nvPr/>
        </p:nvGrpSpPr>
        <p:grpSpPr>
          <a:xfrm>
            <a:off x="3740040" y="4767120"/>
            <a:ext cx="885960" cy="691920"/>
            <a:chOff x="3740040" y="4767120"/>
            <a:chExt cx="885960" cy="691920"/>
          </a:xfrm>
        </p:grpSpPr>
        <p:sp>
          <p:nvSpPr>
            <p:cNvPr id="445" name="Line 15"/>
            <p:cNvSpPr/>
            <p:nvPr/>
          </p:nvSpPr>
          <p:spPr>
            <a:xfrm flipV="1">
              <a:off x="3876480" y="5000400"/>
              <a:ext cx="96840" cy="122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39"/>
            <p:cNvGrpSpPr/>
            <p:nvPr/>
          </p:nvGrpSpPr>
          <p:grpSpPr>
            <a:xfrm>
              <a:off x="3740040" y="4767120"/>
              <a:ext cx="885960" cy="691920"/>
              <a:chOff x="3740040" y="4767120"/>
              <a:chExt cx="885960" cy="691920"/>
            </a:xfrm>
          </p:grpSpPr>
          <p:sp>
            <p:nvSpPr>
              <p:cNvPr id="447" name="Text Box 29"/>
              <p:cNvSpPr/>
              <p:nvPr/>
            </p:nvSpPr>
            <p:spPr>
              <a:xfrm>
                <a:off x="3770280" y="5273640"/>
                <a:ext cx="223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30"/>
              <p:cNvSpPr/>
              <p:nvPr/>
            </p:nvSpPr>
            <p:spPr>
              <a:xfrm>
                <a:off x="3740040" y="4767120"/>
                <a:ext cx="885960" cy="27684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Engulfment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Arial"/>
                  </a:rPr>
                  <a:t>of particle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35"/>
          <p:cNvGrpSpPr/>
          <p:nvPr/>
        </p:nvGrpSpPr>
        <p:grpSpPr>
          <a:xfrm>
            <a:off x="4986360" y="3538440"/>
            <a:ext cx="1301400" cy="368280"/>
            <a:chOff x="4986360" y="3538440"/>
            <a:chExt cx="1301400" cy="368280"/>
          </a:xfrm>
        </p:grpSpPr>
        <p:sp>
          <p:nvSpPr>
            <p:cNvPr id="450" name="Text Box 11"/>
            <p:cNvSpPr/>
            <p:nvPr/>
          </p:nvSpPr>
          <p:spPr>
            <a:xfrm>
              <a:off x="5199120" y="3538440"/>
              <a:ext cx="1088640" cy="3682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Transport vesicle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(containing inactive</a:t>
              </a:r>
              <a:br>
                <a:rPr sz="600"/>
              </a:b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hydrolytic enzymes)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5"/>
            <p:cNvSpPr/>
            <p:nvPr/>
          </p:nvSpPr>
          <p:spPr>
            <a:xfrm>
              <a:off x="4986360" y="35924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40"/>
          <p:cNvGrpSpPr/>
          <p:nvPr/>
        </p:nvGrpSpPr>
        <p:grpSpPr>
          <a:xfrm>
            <a:off x="4676760" y="3294000"/>
            <a:ext cx="933480" cy="409320"/>
            <a:chOff x="4676760" y="3294000"/>
            <a:chExt cx="933480" cy="409320"/>
          </a:xfrm>
        </p:grpSpPr>
        <p:sp>
          <p:nvSpPr>
            <p:cNvPr id="453" name="Text Box 31"/>
            <p:cNvSpPr/>
            <p:nvPr/>
          </p:nvSpPr>
          <p:spPr>
            <a:xfrm>
              <a:off x="4755960" y="3294000"/>
              <a:ext cx="854280" cy="1854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66"/>
                  </a:solidFill>
                  <a:latin typeface="Arial"/>
                </a:rPr>
                <a:t>Rough E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2"/>
            <p:cNvSpPr/>
            <p:nvPr/>
          </p:nvSpPr>
          <p:spPr>
            <a:xfrm flipV="1">
              <a:off x="4676760" y="3476160"/>
              <a:ext cx="163440" cy="227160"/>
            </a:xfrm>
            <a:prstGeom prst="line">
              <a:avLst/>
            </a:prstGeom>
            <a:ln w="9360">
              <a:solidFill>
                <a:srgbClr val="2e6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TextBox 43"/>
          <p:cNvSpPr/>
          <p:nvPr/>
        </p:nvSpPr>
        <p:spPr>
          <a:xfrm>
            <a:off x="6303960" y="3247920"/>
            <a:ext cx="2744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also serve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recycling center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maged cells 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mantled and the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nents re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in white blood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 bacteria that have been ing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Group 15"/>
          <p:cNvGrpSpPr/>
          <p:nvPr/>
        </p:nvGrpSpPr>
        <p:grpSpPr>
          <a:xfrm>
            <a:off x="2815920" y="2341440"/>
            <a:ext cx="4805640" cy="3996000"/>
            <a:chOff x="2815920" y="2341440"/>
            <a:chExt cx="4805640" cy="3996000"/>
          </a:xfrm>
        </p:grpSpPr>
        <p:pic>
          <p:nvPicPr>
            <p:cNvPr id="459" name="Picture 6" descr="_x0019_04_10bLysosomeWBC_CNL.jpg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881440" y="2341440"/>
              <a:ext cx="4740120" cy="39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9"/>
            <p:cNvSpPr/>
            <p:nvPr/>
          </p:nvSpPr>
          <p:spPr>
            <a:xfrm>
              <a:off x="2815920" y="2906640"/>
              <a:ext cx="11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ysos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10"/>
            <p:cNvSpPr/>
            <p:nvPr/>
          </p:nvSpPr>
          <p:spPr>
            <a:xfrm>
              <a:off x="5240160" y="4764240"/>
              <a:ext cx="765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6032880" y="4606920"/>
              <a:ext cx="91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 flipH="1" rot="16200000">
              <a:off x="4902120" y="5514480"/>
              <a:ext cx="11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8,500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"/>
            <p:cNvSpPr/>
            <p:nvPr/>
          </p:nvSpPr>
          <p:spPr>
            <a:xfrm>
              <a:off x="3949560" y="3162240"/>
              <a:ext cx="1892520" cy="1054080"/>
            </a:xfrm>
            <a:custGeom>
              <a:avLst/>
              <a:gdLst>
                <a:gd name="textAreaLeft" fmla="*/ 0 w 1892520"/>
                <a:gd name="textAreaRight" fmla="*/ 1892880 w 1892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1192" h="664">
                  <a:moveTo>
                    <a:pt x="136" y="664"/>
                  </a:moveTo>
                  <a:lnTo>
                    <a:pt x="0" y="0"/>
                  </a:lnTo>
                  <a:lnTo>
                    <a:pt x="1192" y="19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osomes also recycle damaged organe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13"/>
          <p:cNvGrpSpPr/>
          <p:nvPr/>
        </p:nvGrpSpPr>
        <p:grpSpPr>
          <a:xfrm>
            <a:off x="1513080" y="2255760"/>
            <a:ext cx="7191360" cy="3171960"/>
            <a:chOff x="1513080" y="2255760"/>
            <a:chExt cx="7191360" cy="3171960"/>
          </a:xfrm>
        </p:grpSpPr>
        <p:pic>
          <p:nvPicPr>
            <p:cNvPr id="467" name="Picture 5" descr="_x001a_04_10LysosomeAction_UP.jpg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097080" y="2255760"/>
              <a:ext cx="560736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6"/>
            <p:cNvSpPr/>
            <p:nvPr/>
          </p:nvSpPr>
          <p:spPr>
            <a:xfrm flipH="1" rot="16200000">
              <a:off x="7824240" y="4419360"/>
              <a:ext cx="12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 42,50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H="1" flipV="1">
              <a:off x="3111120" y="3144600"/>
              <a:ext cx="2087640" cy="35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1513080" y="2771640"/>
              <a:ext cx="1555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ysosome containing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wo damaged organel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H="1">
              <a:off x="3106440" y="3370320"/>
              <a:ext cx="3056040" cy="69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10"/>
            <p:cNvSpPr/>
            <p:nvPr/>
          </p:nvSpPr>
          <p:spPr>
            <a:xfrm>
              <a:off x="1553040" y="3941640"/>
              <a:ext cx="15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itochondrion frag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H="1">
              <a:off x="2960280" y="4357800"/>
              <a:ext cx="1500120" cy="363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1597320" y="4597560"/>
              <a:ext cx="138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eroxisome frag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Text Box 14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0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When lysosomes were first discovered they were called “suicide capsules.” In what what does that nickname fit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04920" y="1666440"/>
            <a:ext cx="8534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ONNEC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7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1 Abnormal lysosomes can cause fatal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ysosomal Storag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 int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e with various cellular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lacks one or more of the hydrolytic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ysosome becomes engorged by indigestible substances which eventually interferes with other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diseases are fatal in early childh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Examples of Lysosomal Disese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920" y="685440"/>
            <a:ext cx="853416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y-Sachs – lack enzyme needed to break down a lipid abundant in nerve cell membranes; nerve cells in the brain are damag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mpe’s – glycogen accumulates in the muscles and liver cells, because lysosomes lack the enzyme necessary to digest th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How can defective lysosomes result in excess accumulation of a particular compound in a cell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04920" y="1438200"/>
            <a:ext cx="8534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38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2 Vacuoles function in the general maintenance of the c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lant cell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a large central vacuole, which has lysosomal and storage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1036"/>
          <p:cNvGrpSpPr/>
          <p:nvPr/>
        </p:nvGrpSpPr>
        <p:grpSpPr>
          <a:xfrm>
            <a:off x="3195000" y="3052800"/>
            <a:ext cx="4848120" cy="3355920"/>
            <a:chOff x="3195000" y="3052800"/>
            <a:chExt cx="4848120" cy="3355920"/>
          </a:xfrm>
        </p:grpSpPr>
        <p:sp>
          <p:nvSpPr>
            <p:cNvPr id="486" name="Text Box 1029"/>
            <p:cNvSpPr/>
            <p:nvPr/>
          </p:nvSpPr>
          <p:spPr>
            <a:xfrm>
              <a:off x="7223760" y="3486240"/>
              <a:ext cx="81936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7" name="Picture 1030" descr="_x001b_04_12aCentralVacuole_UP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354480" y="3052800"/>
              <a:ext cx="3792600" cy="33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31"/>
            <p:cNvSpPr/>
            <p:nvPr/>
          </p:nvSpPr>
          <p:spPr>
            <a:xfrm>
              <a:off x="4955760" y="4525920"/>
              <a:ext cx="61668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Central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vacuo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32"/>
            <p:cNvSpPr/>
            <p:nvPr/>
          </p:nvSpPr>
          <p:spPr>
            <a:xfrm flipV="1">
              <a:off x="4319640" y="3255480"/>
              <a:ext cx="2941560" cy="5749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33"/>
            <p:cNvSpPr/>
            <p:nvPr/>
          </p:nvSpPr>
          <p:spPr>
            <a:xfrm>
              <a:off x="7215120" y="3116160"/>
              <a:ext cx="6379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Nucl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34"/>
            <p:cNvSpPr/>
            <p:nvPr/>
          </p:nvSpPr>
          <p:spPr>
            <a:xfrm flipV="1">
              <a:off x="6156360" y="3619440"/>
              <a:ext cx="1123920" cy="168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1035"/>
            <p:cNvSpPr/>
            <p:nvPr/>
          </p:nvSpPr>
          <p:spPr>
            <a:xfrm flipH="1" rot="16200000">
              <a:off x="2343240" y="5310720"/>
              <a:ext cx="194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lorized TEM 8,70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Text Box 1037"/>
          <p:cNvSpPr/>
          <p:nvPr/>
        </p:nvSpPr>
        <p:spPr>
          <a:xfrm>
            <a:off x="1460520" y="6138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2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11"/>
          <p:cNvSpPr/>
          <p:nvPr/>
        </p:nvSpPr>
        <p:spPr>
          <a:xfrm>
            <a:off x="428760" y="311472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entral vacuole hel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Plants grow b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Absorbing water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an store vit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hemicals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waste produ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04920" y="685800"/>
            <a:ext cx="853416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tral Vacuoles in flowers may contain pig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vacuoles may contain poisons to protect the pla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tists have contractile vacuoles that pump out excess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2"/>
          <p:cNvGrpSpPr/>
          <p:nvPr/>
        </p:nvGrpSpPr>
        <p:grpSpPr>
          <a:xfrm>
            <a:off x="2778120" y="1963800"/>
            <a:ext cx="5304240" cy="4525920"/>
            <a:chOff x="2778120" y="1963800"/>
            <a:chExt cx="5304240" cy="4525920"/>
          </a:xfrm>
        </p:grpSpPr>
        <p:pic>
          <p:nvPicPr>
            <p:cNvPr id="499" name="Picture 5" descr="_x001e_04_12bContractileVacuole_U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778120" y="1963800"/>
              <a:ext cx="5229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 flipH="1" rot="16200000">
              <a:off x="7333560" y="5647320"/>
              <a:ext cx="12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M 65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7"/>
            <p:cNvSpPr/>
            <p:nvPr/>
          </p:nvSpPr>
          <p:spPr>
            <a:xfrm>
              <a:off x="3231000" y="238140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H="1" flipV="1">
              <a:off x="3874680" y="2639520"/>
              <a:ext cx="1606680" cy="96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6606360" y="5462640"/>
              <a:ext cx="97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ntractile</a:t>
              </a:r>
              <a:br>
                <a:rPr sz="1200"/>
              </a:b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vacuo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6640560" y="3156120"/>
              <a:ext cx="323640" cy="2300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362480" y="4030560"/>
              <a:ext cx="2600280" cy="142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Text Box 13"/>
          <p:cNvSpPr/>
          <p:nvPr/>
        </p:nvSpPr>
        <p:spPr>
          <a:xfrm>
            <a:off x="1460520" y="61642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ll Organisms are composed of cells.</a:t>
            </a:r>
            <a:br>
              <a:rPr sz="3000"/>
            </a:b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68544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chapter will focus on the structure and function of the cell and the organelles that are found inside the ce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.13 A review of the endomembrane syst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74"/>
              </a:spcBef>
              <a:spcAft>
                <a:spcPts val="624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various organelles of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endomembran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system are interconnected structurally and functional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25"/>
          <p:cNvGrpSpPr/>
          <p:nvPr/>
        </p:nvGrpSpPr>
        <p:grpSpPr>
          <a:xfrm>
            <a:off x="2786040" y="2424240"/>
            <a:ext cx="5258880" cy="4006440"/>
            <a:chOff x="2786040" y="2424240"/>
            <a:chExt cx="5258880" cy="4006440"/>
          </a:xfrm>
        </p:grpSpPr>
        <p:pic>
          <p:nvPicPr>
            <p:cNvPr id="509" name="Picture 5" descr="_x001d_04_13EndomembraneSystem_U.jpg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900520" y="2880360"/>
              <a:ext cx="5144400" cy="32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6"/>
            <p:cNvSpPr/>
            <p:nvPr/>
          </p:nvSpPr>
          <p:spPr>
            <a:xfrm>
              <a:off x="4455360" y="441612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 flipH="1">
              <a:off x="3576960" y="5203800"/>
              <a:ext cx="511200" cy="955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2998080" y="612720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moot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4343760" y="6085800"/>
              <a:ext cx="137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clear envelop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>
              <a:off x="4872240" y="4984200"/>
              <a:ext cx="90720" cy="1156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5920560" y="4327200"/>
              <a:ext cx="300240" cy="186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5987160" y="615420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apparat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3"/>
            <p:cNvSpPr/>
            <p:nvPr/>
          </p:nvSpPr>
          <p:spPr>
            <a:xfrm>
              <a:off x="6312240" y="4893120"/>
              <a:ext cx="164520" cy="80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4"/>
            <p:cNvSpPr/>
            <p:nvPr/>
          </p:nvSpPr>
          <p:spPr>
            <a:xfrm>
              <a:off x="6452640" y="563940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Lysoso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6682680" y="4563720"/>
              <a:ext cx="173520" cy="674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16"/>
            <p:cNvSpPr/>
            <p:nvPr/>
          </p:nvSpPr>
          <p:spPr>
            <a:xfrm>
              <a:off x="6801480" y="521064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Vacuo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17"/>
            <p:cNvSpPr/>
            <p:nvPr/>
          </p:nvSpPr>
          <p:spPr>
            <a:xfrm>
              <a:off x="6986160" y="349344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lasma</a:t>
              </a:r>
              <a:br>
                <a:rPr sz="1200"/>
              </a:b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>
              <a:off x="6686280" y="3773160"/>
              <a:ext cx="318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 flipV="1">
              <a:off x="3303360" y="2914560"/>
              <a:ext cx="875160" cy="837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20"/>
            <p:cNvSpPr/>
            <p:nvPr/>
          </p:nvSpPr>
          <p:spPr>
            <a:xfrm>
              <a:off x="2786040" y="26247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ough 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3646080" y="2442960"/>
              <a:ext cx="1343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nsport vesicl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ER to Golg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 flipV="1">
              <a:off x="4305960" y="2904120"/>
              <a:ext cx="864360" cy="965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23"/>
            <p:cNvSpPr/>
            <p:nvPr/>
          </p:nvSpPr>
          <p:spPr>
            <a:xfrm>
              <a:off x="5407920" y="242424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nsport vesicle from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olgi to plasma 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V="1">
              <a:off x="6221160" y="2899440"/>
              <a:ext cx="190080" cy="90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Text Box 26"/>
          <p:cNvSpPr/>
          <p:nvPr/>
        </p:nvSpPr>
        <p:spPr>
          <a:xfrm>
            <a:off x="1460520" y="5846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24"/>
          <p:cNvSpPr/>
          <p:nvPr/>
        </p:nvSpPr>
        <p:spPr>
          <a:xfrm>
            <a:off x="76680" y="2828880"/>
            <a:ext cx="259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Note: cell cont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can exit the cell wi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the aid of transpor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vesic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How do transport vescicles help tie together the endomembrane?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04920" y="1247400"/>
            <a:ext cx="8534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genda Bok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5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5 – 4.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ENERGY-CONVERTING ORGANELLE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75760" y="647640"/>
            <a:ext cx="85345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4 Chloroplasts con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olar energy to chemical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loroplasts, found in plants and some protists conv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solar energy to chemical energy of sugar molecul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26"/>
          <p:cNvGrpSpPr/>
          <p:nvPr/>
        </p:nvGrpSpPr>
        <p:grpSpPr>
          <a:xfrm>
            <a:off x="927000" y="3765600"/>
            <a:ext cx="7262280" cy="2471760"/>
            <a:chOff x="927000" y="3765600"/>
            <a:chExt cx="7262280" cy="2471760"/>
          </a:xfrm>
        </p:grpSpPr>
        <p:pic>
          <p:nvPicPr>
            <p:cNvPr id="538" name="Picture 5" descr="_x0018_04_14Chloroplast_CNL.jpg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1003320" y="3765600"/>
              <a:ext cx="7143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 Box 6"/>
            <p:cNvSpPr/>
            <p:nvPr/>
          </p:nvSpPr>
          <p:spPr>
            <a:xfrm flipH="1" rot="16200000">
              <a:off x="7476120" y="4857480"/>
              <a:ext cx="11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M 9,750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7"/>
            <p:cNvSpPr/>
            <p:nvPr/>
          </p:nvSpPr>
          <p:spPr>
            <a:xfrm>
              <a:off x="2079720" y="3881520"/>
              <a:ext cx="88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hloroplas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 flipV="1">
              <a:off x="4046400" y="4376160"/>
              <a:ext cx="765360" cy="219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 flipH="1" flipV="1">
              <a:off x="5483160" y="4367160"/>
              <a:ext cx="1125360" cy="1159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4880520" y="4110120"/>
              <a:ext cx="5875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tro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4076640" y="5357880"/>
              <a:ext cx="646200" cy="3967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4772520" y="5664240"/>
              <a:ext cx="10371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termembrane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4284720" y="4680000"/>
              <a:ext cx="4888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 flipH="1">
              <a:off x="4419360" y="4680000"/>
              <a:ext cx="354240" cy="12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4743720" y="4414680"/>
              <a:ext cx="1037160" cy="398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Inner and outer</a:t>
              </a:r>
              <a:br>
                <a:rPr sz="1000"/>
              </a:b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membra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 flipH="1" flipV="1">
              <a:off x="5638320" y="4857840"/>
              <a:ext cx="290520" cy="41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 flipH="1" flipV="1">
              <a:off x="5293800" y="5055840"/>
              <a:ext cx="546120" cy="73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4635360" y="4890960"/>
              <a:ext cx="637920" cy="2462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Gran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21"/>
            <p:cNvSpPr/>
            <p:nvPr/>
          </p:nvSpPr>
          <p:spPr>
            <a:xfrm>
              <a:off x="4273560" y="4903560"/>
              <a:ext cx="131760" cy="328680"/>
            </a:xfrm>
            <a:custGeom>
              <a:avLst/>
              <a:gdLst>
                <a:gd name="textAreaLeft" fmla="*/ 0 w 131760"/>
                <a:gd name="textAreaRight" fmla="*/ 47520 w 131760"/>
                <a:gd name="textAreaTop" fmla="*/ 8280 h 328680"/>
                <a:gd name="textAreaBottom" fmla="*/ 32040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22"/>
            <p:cNvSpPr/>
            <p:nvPr/>
          </p:nvSpPr>
          <p:spPr>
            <a:xfrm>
              <a:off x="4425840" y="5068800"/>
              <a:ext cx="23976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24"/>
            <p:cNvSpPr/>
            <p:nvPr/>
          </p:nvSpPr>
          <p:spPr>
            <a:xfrm>
              <a:off x="927000" y="59608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5"/>
            <p:cNvSpPr/>
            <p:nvPr/>
          </p:nvSpPr>
          <p:spPr>
            <a:xfrm>
              <a:off x="2012760" y="4089240"/>
              <a:ext cx="863640" cy="5590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544" h="352">
                  <a:moveTo>
                    <a:pt x="0" y="352"/>
                  </a:moveTo>
                  <a:lnTo>
                    <a:pt x="312" y="0"/>
                  </a:lnTo>
                  <a:lnTo>
                    <a:pt x="544" y="24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63604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5 Mitochondria h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 chemical energy from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ochondria carry out cellular respiration in eukaryotic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verts chemical energy of food to cellular energy AT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1460520" y="5999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29"/>
          <p:cNvGrpSpPr/>
          <p:nvPr/>
        </p:nvGrpSpPr>
        <p:grpSpPr>
          <a:xfrm>
            <a:off x="2569320" y="2933640"/>
            <a:ext cx="3976920" cy="3461040"/>
            <a:chOff x="2569320" y="2933640"/>
            <a:chExt cx="3976920" cy="3461040"/>
          </a:xfrm>
        </p:grpSpPr>
        <p:pic>
          <p:nvPicPr>
            <p:cNvPr id="559" name="Picture 5" descr="_x001a_04_15Mitochondrion_CNL.jpg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263760" y="2933640"/>
              <a:ext cx="313380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Line 6"/>
            <p:cNvSpPr/>
            <p:nvPr/>
          </p:nvSpPr>
          <p:spPr>
            <a:xfrm flipH="1" flipV="1">
              <a:off x="3174840" y="3315960"/>
              <a:ext cx="650880" cy="4158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7"/>
            <p:cNvSpPr/>
            <p:nvPr/>
          </p:nvSpPr>
          <p:spPr>
            <a:xfrm>
              <a:off x="2569320" y="3068640"/>
              <a:ext cx="12384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>
              <a:off x="3241080" y="4614840"/>
              <a:ext cx="723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4243320" y="3784680"/>
              <a:ext cx="969840" cy="6415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uter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br>
                <a:rPr sz="12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2691000" y="4270320"/>
              <a:ext cx="121716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termembrane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sp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 flipV="1">
              <a:off x="4102200" y="5386320"/>
              <a:ext cx="291960" cy="84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 flipH="1">
              <a:off x="4976640" y="5364000"/>
              <a:ext cx="417600" cy="17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5"/>
            <p:cNvSpPr/>
            <p:nvPr/>
          </p:nvSpPr>
          <p:spPr>
            <a:xfrm>
              <a:off x="3892320" y="5797440"/>
              <a:ext cx="476280" cy="3668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 flipH="1">
              <a:off x="4752720" y="5897520"/>
              <a:ext cx="789120" cy="2840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4255920" y="6118200"/>
              <a:ext cx="5950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atri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314240" y="5270400"/>
              <a:ext cx="910800" cy="45900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Inner</a:t>
              </a:r>
              <a:br>
                <a:rPr sz="1200"/>
              </a:b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9"/>
            <p:cNvGrpSpPr/>
            <p:nvPr/>
          </p:nvGrpSpPr>
          <p:grpSpPr>
            <a:xfrm>
              <a:off x="3743280" y="5533920"/>
              <a:ext cx="677880" cy="309600"/>
              <a:chOff x="3743280" y="5533920"/>
              <a:chExt cx="677880" cy="309600"/>
            </a:xfrm>
          </p:grpSpPr>
          <p:sp>
            <p:nvSpPr>
              <p:cNvPr id="572" name="Line 20"/>
              <p:cNvSpPr/>
              <p:nvPr/>
            </p:nvSpPr>
            <p:spPr>
              <a:xfrm>
                <a:off x="3837240" y="5533920"/>
                <a:ext cx="577440" cy="30348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1"/>
              <p:cNvSpPr/>
              <p:nvPr/>
            </p:nvSpPr>
            <p:spPr>
              <a:xfrm>
                <a:off x="3743280" y="5604120"/>
                <a:ext cx="677880" cy="23940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2"/>
            <p:cNvSpPr/>
            <p:nvPr/>
          </p:nvSpPr>
          <p:spPr>
            <a:xfrm flipH="1">
              <a:off x="4895280" y="5575320"/>
              <a:ext cx="938520" cy="309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V="1">
              <a:off x="4903560" y="5624640"/>
              <a:ext cx="555840" cy="2556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24"/>
            <p:cNvSpPr/>
            <p:nvPr/>
          </p:nvSpPr>
          <p:spPr>
            <a:xfrm>
              <a:off x="4321800" y="5772240"/>
              <a:ext cx="6638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Crista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5"/>
            <p:cNvSpPr/>
            <p:nvPr/>
          </p:nvSpPr>
          <p:spPr>
            <a:xfrm flipH="1" rot="16200000">
              <a:off x="5642640" y="5294160"/>
              <a:ext cx="15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 44,88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>
              <a:off x="4302000" y="4191120"/>
              <a:ext cx="1150920" cy="28728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725" h="181">
                  <a:moveTo>
                    <a:pt x="0" y="181"/>
                  </a:moveTo>
                  <a:lnTo>
                    <a:pt x="144" y="0"/>
                  </a:lnTo>
                  <a:lnTo>
                    <a:pt x="725" y="154"/>
                  </a:lnTo>
                </a:path>
              </a:pathLst>
            </a:custGeom>
            <a:noFill/>
            <a:ln w="9360">
              <a:solidFill>
                <a:srgbClr val="0032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685800"/>
            <a:ext cx="85341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spcAft>
                <a:spcPts val="1199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Cellular Respir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THE CYTOSKELETON AND RELATED STRUCTURES</a:t>
            </a:r>
            <a:endParaRPr b="1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6 The cell’s internal skeleton helps organize its structure and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twork of protein fibers call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ytoskele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rovide structural support and movement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18"/>
          <p:cNvGrpSpPr/>
          <p:nvPr/>
        </p:nvGrpSpPr>
        <p:grpSpPr>
          <a:xfrm>
            <a:off x="2362320" y="3174840"/>
            <a:ext cx="6212880" cy="2940480"/>
            <a:chOff x="2362320" y="3174840"/>
            <a:chExt cx="6212880" cy="2940480"/>
          </a:xfrm>
        </p:grpSpPr>
        <p:pic>
          <p:nvPicPr>
            <p:cNvPr id="584" name="Picture 5" descr="_x001e_04_16CytoskeletonFibers_CN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2362320" y="3174840"/>
              <a:ext cx="602604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6"/>
            <p:cNvSpPr/>
            <p:nvPr/>
          </p:nvSpPr>
          <p:spPr>
            <a:xfrm flipV="1">
              <a:off x="3298680" y="5200560"/>
              <a:ext cx="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7"/>
            <p:cNvSpPr/>
            <p:nvPr/>
          </p:nvSpPr>
          <p:spPr>
            <a:xfrm>
              <a:off x="2706840" y="49514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tin subuni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8"/>
            <p:cNvSpPr/>
            <p:nvPr/>
          </p:nvSpPr>
          <p:spPr>
            <a:xfrm>
              <a:off x="2662920" y="5838840"/>
              <a:ext cx="11728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crofila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3751920" y="539424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10240" y="5221440"/>
              <a:ext cx="2635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11"/>
            <p:cNvSpPr/>
            <p:nvPr/>
          </p:nvSpPr>
          <p:spPr>
            <a:xfrm>
              <a:off x="4919400" y="501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brous subuni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12"/>
            <p:cNvSpPr/>
            <p:nvPr/>
          </p:nvSpPr>
          <p:spPr>
            <a:xfrm>
              <a:off x="5766120" y="53658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13"/>
            <p:cNvSpPr/>
            <p:nvPr/>
          </p:nvSpPr>
          <p:spPr>
            <a:xfrm>
              <a:off x="4640040" y="5829480"/>
              <a:ext cx="171684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Intermediate fila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14"/>
            <p:cNvSpPr/>
            <p:nvPr/>
          </p:nvSpPr>
          <p:spPr>
            <a:xfrm>
              <a:off x="7068240" y="5770440"/>
              <a:ext cx="104472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icrotub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5"/>
            <p:cNvSpPr/>
            <p:nvPr/>
          </p:nvSpPr>
          <p:spPr>
            <a:xfrm>
              <a:off x="7969320" y="5226120"/>
              <a:ext cx="60588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25 n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6"/>
            <p:cNvSpPr/>
            <p:nvPr/>
          </p:nvSpPr>
          <p:spPr>
            <a:xfrm>
              <a:off x="7321680" y="4689360"/>
              <a:ext cx="12186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Tubulin subuni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AutoShape 17"/>
            <p:cNvSpPr/>
            <p:nvPr/>
          </p:nvSpPr>
          <p:spPr>
            <a:xfrm rot="5400000">
              <a:off x="7273080" y="4739400"/>
              <a:ext cx="30240" cy="190800"/>
            </a:xfrm>
            <a:custGeom>
              <a:avLst/>
              <a:gdLst>
                <a:gd name="textAreaLeft" fmla="*/ 8640 w 30240"/>
                <a:gd name="textAreaRight" fmla="*/ 30240 w 30240"/>
                <a:gd name="textAreaTop" fmla="*/ 7920 h 190800"/>
                <a:gd name="textAreaBottom" fmla="*/ 18288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9"/>
          <p:cNvSpPr/>
          <p:nvPr/>
        </p:nvSpPr>
        <p:spPr>
          <a:xfrm>
            <a:off x="1460520" y="5999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8"/>
          <p:cNvSpPr/>
          <p:nvPr/>
        </p:nvSpPr>
        <p:spPr>
          <a:xfrm>
            <a:off x="181800" y="37148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ain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fila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lso called acti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cells to change shape and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mediate fila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 the cell and anchor c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n orga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the cell 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vide anchors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rganelles and act as tracks for organell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685440"/>
            <a:ext cx="853416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ch components of the cytoskeleton is most important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 the nucleus in place within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il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ing transport vesicles from the Golgi to the plasma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ing muscl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17 Cilia and flagella move whe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crotub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ukaryotic cilia and flagella are locomotor appendages that protrude from c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in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15"/>
          <p:cNvGrpSpPr/>
          <p:nvPr/>
        </p:nvGrpSpPr>
        <p:grpSpPr>
          <a:xfrm>
            <a:off x="457200" y="3201840"/>
            <a:ext cx="8200440" cy="2997720"/>
            <a:chOff x="457200" y="3201840"/>
            <a:chExt cx="8200440" cy="2997720"/>
          </a:xfrm>
        </p:grpSpPr>
        <p:pic>
          <p:nvPicPr>
            <p:cNvPr id="604" name="Picture 9" descr="_x0016_04_17bFlagellum_UP.jpg     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4465440" y="3201840"/>
              <a:ext cx="4148280" cy="29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 flipH="1" rot="16200000">
              <a:off x="7792200" y="5144760"/>
              <a:ext cx="14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M 6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6" name="Picture 5" descr="_x0012_04_17aCilia_UP.jpg                                             0050AA83_x0003_203                            BE5F24FD:"/>
            <p:cNvPicPr/>
            <p:nvPr/>
          </p:nvPicPr>
          <p:blipFill>
            <a:blip r:embed="rId2"/>
            <a:stretch/>
          </p:blipFill>
          <p:spPr>
            <a:xfrm>
              <a:off x="457200" y="3208320"/>
              <a:ext cx="3982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6"/>
            <p:cNvSpPr/>
            <p:nvPr/>
          </p:nvSpPr>
          <p:spPr>
            <a:xfrm flipH="1" rot="16200000">
              <a:off x="3357000" y="4918680"/>
              <a:ext cx="193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lorized SEM 4,10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546120" y="5923080"/>
              <a:ext cx="10980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igure 4.17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4584600" y="5923080"/>
              <a:ext cx="1098000" cy="2764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igure 4.17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ell  Theory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685800"/>
            <a:ext cx="8534160" cy="20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Living Things Are Composed of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Cells Come From Other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s of microtubu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ive the whipping action of these organel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7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32"/>
          <p:cNvGrpSpPr/>
          <p:nvPr/>
        </p:nvGrpSpPr>
        <p:grpSpPr>
          <a:xfrm>
            <a:off x="2485080" y="2224080"/>
            <a:ext cx="5148000" cy="4087800"/>
            <a:chOff x="2485080" y="2224080"/>
            <a:chExt cx="5148000" cy="4087800"/>
          </a:xfrm>
        </p:grpSpPr>
        <p:pic>
          <p:nvPicPr>
            <p:cNvPr id="613" name="Picture 5" descr="_x001d_04_17FlagCilStructure_CNL.jpg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35280" y="2224080"/>
              <a:ext cx="37940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6"/>
            <p:cNvSpPr/>
            <p:nvPr/>
          </p:nvSpPr>
          <p:spPr>
            <a:xfrm>
              <a:off x="3949920" y="2384280"/>
              <a:ext cx="659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Flagellu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7"/>
            <p:cNvSpPr/>
            <p:nvPr/>
          </p:nvSpPr>
          <p:spPr>
            <a:xfrm flipH="1">
              <a:off x="4582440" y="2500200"/>
              <a:ext cx="392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8"/>
            <p:cNvSpPr/>
            <p:nvPr/>
          </p:nvSpPr>
          <p:spPr>
            <a:xfrm>
              <a:off x="5933880" y="2430360"/>
              <a:ext cx="16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lectron micrographs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of cross sections: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9"/>
            <p:cNvSpPr/>
            <p:nvPr/>
          </p:nvSpPr>
          <p:spPr>
            <a:xfrm>
              <a:off x="5935320" y="4209840"/>
              <a:ext cx="81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lagellu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10"/>
            <p:cNvSpPr/>
            <p:nvPr/>
          </p:nvSpPr>
          <p:spPr>
            <a:xfrm>
              <a:off x="5935320" y="5929200"/>
              <a:ext cx="105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Basal bod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11"/>
            <p:cNvSpPr/>
            <p:nvPr/>
          </p:nvSpPr>
          <p:spPr>
            <a:xfrm>
              <a:off x="4735440" y="5808600"/>
              <a:ext cx="1277640" cy="459000"/>
            </a:xfrm>
            <a:prstGeom prst="rect">
              <a:avLst/>
            </a:prstGeom>
            <a:gradFill rotWithShape="0">
              <a:gsLst>
                <a:gs pos="0">
                  <a:srgbClr val="9bfd9b"/>
                </a:gs>
                <a:gs pos="100000">
                  <a:srgbClr val="e4ffe4"/>
                </a:gs>
              </a:gsLst>
              <a:lin ang="16200000"/>
            </a:gradFill>
            <a:ln w="9360">
              <a:solidFill>
                <a:srgbClr val="00b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Basal body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(structurally identical to centriole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2"/>
            <p:cNvSpPr/>
            <p:nvPr/>
          </p:nvSpPr>
          <p:spPr>
            <a:xfrm>
              <a:off x="4474800" y="5921280"/>
              <a:ext cx="30492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13"/>
            <p:cNvSpPr/>
            <p:nvPr/>
          </p:nvSpPr>
          <p:spPr>
            <a:xfrm flipH="1" rot="16200000">
              <a:off x="6923160" y="5525280"/>
              <a:ext cx="96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206,5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 flipH="1" rot="16200000">
              <a:off x="7030800" y="371736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 206,500</a:t>
              </a: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2886120" y="4647960"/>
              <a:ext cx="69588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Plasma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membran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 flipH="1">
              <a:off x="3576240" y="4006800"/>
              <a:ext cx="1046160" cy="2048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2796120" y="4144680"/>
              <a:ext cx="753840" cy="2156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ynein arm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 flipH="1">
              <a:off x="3452040" y="3867120"/>
              <a:ext cx="1165320" cy="10152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2646720" y="3897000"/>
              <a:ext cx="770400" cy="21564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adial spok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 flipV="1">
              <a:off x="3290400" y="3679560"/>
              <a:ext cx="1352520" cy="100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3304800" y="3676320"/>
              <a:ext cx="1278000" cy="64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2485080" y="3463920"/>
              <a:ext cx="75996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Central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microtubule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 flipH="1" flipV="1">
              <a:off x="3360600" y="3244680"/>
              <a:ext cx="1047600" cy="176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3373200" y="3246120"/>
              <a:ext cx="961920" cy="220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2820960" y="3044520"/>
              <a:ext cx="991440" cy="337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Outer microtubule</a:t>
              </a:r>
              <a:br>
                <a:rPr sz="800"/>
              </a:b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ouble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1"/>
            <p:cNvSpPr/>
            <p:nvPr/>
          </p:nvSpPr>
          <p:spPr>
            <a:xfrm>
              <a:off x="3549240" y="4055760"/>
              <a:ext cx="1143000" cy="1346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720" h="848">
                  <a:moveTo>
                    <a:pt x="186" y="848"/>
                  </a:moveTo>
                  <a:lnTo>
                    <a:pt x="0" y="507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32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ELL SURFACES AND JUNCTION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9 Cell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ces protect, sup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, and join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interact with their environments and each other via their su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4"/>
          <p:cNvGrpSpPr/>
          <p:nvPr/>
        </p:nvGrpSpPr>
        <p:grpSpPr>
          <a:xfrm>
            <a:off x="3111480" y="3017880"/>
            <a:ext cx="5546880" cy="3433680"/>
            <a:chOff x="3111480" y="3017880"/>
            <a:chExt cx="5546880" cy="3433680"/>
          </a:xfrm>
        </p:grpSpPr>
        <p:grpSp>
          <p:nvGrpSpPr>
            <p:cNvPr id="638" name="Group 23"/>
            <p:cNvGrpSpPr/>
            <p:nvPr/>
          </p:nvGrpSpPr>
          <p:grpSpPr>
            <a:xfrm>
              <a:off x="3111480" y="3017880"/>
              <a:ext cx="5208120" cy="3433680"/>
              <a:chOff x="3111480" y="3017880"/>
              <a:chExt cx="5208120" cy="3433680"/>
            </a:xfrm>
          </p:grpSpPr>
          <p:pic>
            <p:nvPicPr>
              <p:cNvPr id="639" name="Picture 5" descr="_x001e_04_18aPlantCellJunctions_U.jpg                                 0050AA83_x0003_203                            BE5F24FD:"/>
              <p:cNvPicPr/>
              <p:nvPr/>
            </p:nvPicPr>
            <p:blipFill>
              <a:blip r:embed="rId1"/>
              <a:stretch/>
            </p:blipFill>
            <p:spPr>
              <a:xfrm>
                <a:off x="3673440" y="3017880"/>
                <a:ext cx="4291200" cy="343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Line 7"/>
              <p:cNvSpPr/>
              <p:nvPr/>
            </p:nvSpPr>
            <p:spPr>
              <a:xfrm flipH="1">
                <a:off x="4930920" y="6103800"/>
                <a:ext cx="140472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3287160" y="5954760"/>
                <a:ext cx="167580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Plasma membran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3477960" y="5630760"/>
                <a:ext cx="102348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0"/>
              <p:cNvSpPr/>
              <p:nvPr/>
            </p:nvSpPr>
            <p:spPr>
              <a:xfrm flipH="1">
                <a:off x="4447800" y="5799240"/>
                <a:ext cx="106524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1"/>
              <p:cNvSpPr/>
              <p:nvPr/>
            </p:nvSpPr>
            <p:spPr>
              <a:xfrm flipV="1">
                <a:off x="6729480" y="4540320"/>
                <a:ext cx="608040" cy="1001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Text Box 12"/>
              <p:cNvSpPr/>
              <p:nvPr/>
            </p:nvSpPr>
            <p:spPr>
              <a:xfrm>
                <a:off x="6782400" y="4222800"/>
                <a:ext cx="153720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lasmodesm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3"/>
              <p:cNvSpPr/>
              <p:nvPr/>
            </p:nvSpPr>
            <p:spPr>
              <a:xfrm>
                <a:off x="6529320" y="3814920"/>
                <a:ext cx="266760" cy="61596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"/>
              <p:cNvSpPr/>
              <p:nvPr/>
            </p:nvSpPr>
            <p:spPr>
              <a:xfrm>
                <a:off x="6365880" y="4253040"/>
                <a:ext cx="430200" cy="17784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5"/>
              <p:cNvSpPr/>
              <p:nvPr/>
            </p:nvSpPr>
            <p:spPr>
              <a:xfrm>
                <a:off x="6211800" y="3187800"/>
                <a:ext cx="687600" cy="12384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6"/>
              <p:cNvSpPr/>
              <p:nvPr/>
            </p:nvSpPr>
            <p:spPr>
              <a:xfrm flipV="1">
                <a:off x="6218280" y="3311280"/>
                <a:ext cx="674640" cy="2988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Text Box 18"/>
              <p:cNvSpPr/>
              <p:nvPr/>
            </p:nvSpPr>
            <p:spPr>
              <a:xfrm>
                <a:off x="4197240" y="3921120"/>
                <a:ext cx="825480" cy="30708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Vacuol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Text Box 19"/>
              <p:cNvSpPr/>
              <p:nvPr/>
            </p:nvSpPr>
            <p:spPr>
              <a:xfrm>
                <a:off x="3111480" y="5124600"/>
                <a:ext cx="1579680" cy="520200"/>
              </a:xfrm>
              <a:prstGeom prst="rect">
                <a:avLst/>
              </a:prstGeom>
              <a:gradFill rotWithShape="0">
                <a:gsLst>
                  <a:gs pos="0">
                    <a:srgbClr val="95adff"/>
                  </a:gs>
                  <a:gs pos="100000">
                    <a:srgbClr val="e1e8ff"/>
                  </a:gs>
                </a:gsLst>
                <a:lin ang="16200000"/>
              </a:gradFill>
              <a:ln w="9360">
                <a:solidFill>
                  <a:srgbClr val="2e62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Layers of one plant cell wal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20"/>
              <p:cNvSpPr/>
              <p:nvPr/>
            </p:nvSpPr>
            <p:spPr>
              <a:xfrm>
                <a:off x="4289400" y="5391000"/>
                <a:ext cx="1785960" cy="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AutoShape 21"/>
              <p:cNvSpPr/>
              <p:nvPr/>
            </p:nvSpPr>
            <p:spPr>
              <a:xfrm flipV="1" rot="16200000">
                <a:off x="6054840" y="5038560"/>
                <a:ext cx="41040" cy="486000"/>
              </a:xfrm>
              <a:custGeom>
                <a:avLst/>
                <a:gdLst>
                  <a:gd name="textAreaLeft" fmla="*/ 11880 w 41040"/>
                  <a:gd name="textAreaRight" fmla="*/ 41400 w 41040"/>
                  <a:gd name="textAreaTop" fmla="*/ 13320 h 486000"/>
                  <a:gd name="textAreaBottom" fmla="*/ 47268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600"/>
                      <a:pt x="0" y="1200"/>
                    </a:cubicBezTo>
                    <a:lnTo>
                      <a:pt x="0" y="20400"/>
                    </a:lnTo>
                    <a:cubicBezTo>
                      <a:pt x="0" y="210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22"/>
              <p:cNvSpPr/>
              <p:nvPr/>
            </p:nvSpPr>
            <p:spPr>
              <a:xfrm>
                <a:off x="6075360" y="5300640"/>
                <a:ext cx="0" cy="93600"/>
              </a:xfrm>
              <a:prstGeom prst="line">
                <a:avLst/>
              </a:prstGeom>
              <a:ln w="9360">
                <a:solidFill>
                  <a:srgbClr val="0032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Text Box 17"/>
            <p:cNvSpPr/>
            <p:nvPr/>
          </p:nvSpPr>
          <p:spPr>
            <a:xfrm>
              <a:off x="6885000" y="3192480"/>
              <a:ext cx="1773360" cy="73332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Walls of two adjacent pla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t cell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660680" indent="-51444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ppor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rigid cell walls made largely of cellu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60680" indent="-51444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by plasmodesmata, which are connecting chann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5"/>
          <p:cNvSpPr/>
          <p:nvPr/>
        </p:nvSpPr>
        <p:spPr>
          <a:xfrm>
            <a:off x="1460520" y="61898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8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22"/>
          <p:cNvSpPr/>
          <p:nvPr/>
        </p:nvSpPr>
        <p:spPr>
          <a:xfrm>
            <a:off x="0" y="3429000"/>
            <a:ext cx="376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e plasmodesmata, prov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  circulatory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mmunication system betwe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nnecting 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nimal Cells Lack Rigid Cell Walls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4920" y="685800"/>
            <a:ext cx="853416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s are embedded in an extracellular matrix which binds cells together in tissue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ght junction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leak proof sh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2156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ght junctions can bind cells together into leakproof shee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choring junctions link animal cells into strong tissu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814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p junctions allow substances to flow from cell to cel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Group 20"/>
          <p:cNvGrpSpPr/>
          <p:nvPr/>
        </p:nvGrpSpPr>
        <p:grpSpPr>
          <a:xfrm>
            <a:off x="3873600" y="3441600"/>
            <a:ext cx="3789720" cy="3060000"/>
            <a:chOff x="3873600" y="3441600"/>
            <a:chExt cx="3789720" cy="3060000"/>
          </a:xfrm>
        </p:grpSpPr>
        <p:sp>
          <p:nvSpPr>
            <p:cNvPr id="663" name="Text Box 5"/>
            <p:cNvSpPr/>
            <p:nvPr/>
          </p:nvSpPr>
          <p:spPr>
            <a:xfrm>
              <a:off x="6013440" y="4375080"/>
              <a:ext cx="16498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nchoring jun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4" name="Picture 7" descr="_x001f_04_18bAnimalCellJunctions_U.jpg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873600" y="3441600"/>
              <a:ext cx="206064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Line 8"/>
            <p:cNvSpPr/>
            <p:nvPr/>
          </p:nvSpPr>
          <p:spPr>
            <a:xfrm>
              <a:off x="5634360" y="4076640"/>
              <a:ext cx="4222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5639040" y="4535640"/>
              <a:ext cx="4222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5639040" y="4965840"/>
              <a:ext cx="420480" cy="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11"/>
            <p:cNvSpPr/>
            <p:nvPr/>
          </p:nvSpPr>
          <p:spPr>
            <a:xfrm>
              <a:off x="5999760" y="3925800"/>
              <a:ext cx="133272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Tight jun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"/>
            <p:cNvSpPr/>
            <p:nvPr/>
          </p:nvSpPr>
          <p:spPr>
            <a:xfrm>
              <a:off x="6019200" y="4818240"/>
              <a:ext cx="127332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ap jun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5531040" y="5537160"/>
              <a:ext cx="378000" cy="15408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4"/>
            <p:cNvSpPr/>
            <p:nvPr/>
          </p:nvSpPr>
          <p:spPr>
            <a:xfrm>
              <a:off x="5950800" y="5389560"/>
              <a:ext cx="17002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xtracellular matri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5"/>
            <p:cNvSpPr/>
            <p:nvPr/>
          </p:nvSpPr>
          <p:spPr>
            <a:xfrm>
              <a:off x="5555880" y="5767560"/>
              <a:ext cx="181908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Space between 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4364280" y="5492880"/>
              <a:ext cx="1220760" cy="3902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 flipH="1">
              <a:off x="4097160" y="5641920"/>
              <a:ext cx="235080" cy="40500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 flipV="1">
              <a:off x="4102200" y="5663880"/>
              <a:ext cx="284400" cy="377640"/>
            </a:xfrm>
            <a:prstGeom prst="line">
              <a:avLst/>
            </a:prstGeom>
            <a:ln w="9360">
              <a:solidFill>
                <a:srgbClr val="003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19"/>
            <p:cNvSpPr/>
            <p:nvPr/>
          </p:nvSpPr>
          <p:spPr>
            <a:xfrm>
              <a:off x="3934800" y="6194520"/>
              <a:ext cx="3099240" cy="307080"/>
            </a:xfrm>
            <a:prstGeom prst="rect">
              <a:avLst/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Plasma membranes of adjacent ce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Text Box 21"/>
          <p:cNvSpPr/>
          <p:nvPr/>
        </p:nvSpPr>
        <p:spPr>
          <a:xfrm>
            <a:off x="1460520" y="59990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8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NCTIONAL CATEGORIES OF ORGANELLES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9 Eukaryotic organelles comprise four functional categ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organelles fall into four functional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d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, movement, and communication between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ka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tic organell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4" descr="_x0017_04_19OrganelleFxn_T.jpg                                        0050AA83_x0003_203                            BE5F24FD:"/>
          <p:cNvPicPr/>
          <p:nvPr/>
        </p:nvPicPr>
        <p:blipFill>
          <a:blip r:embed="rId1"/>
          <a:stretch/>
        </p:blipFill>
        <p:spPr>
          <a:xfrm>
            <a:off x="2822400" y="1444680"/>
            <a:ext cx="4640400" cy="4987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1460520" y="610092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4.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Chapter Question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920" y="685800"/>
            <a:ext cx="8534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mitochondria, smooth ER and the Cytoskeleton all contribute to the contration of a muscle cel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chondria supplies energy in the form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ER regulates contraction by the uptake of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alc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aments (actin and myosin) function to con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genda Book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4920" y="685800"/>
            <a:ext cx="853416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-read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l in chapter no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te Chapter objectives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- line book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quiz 4.14 – 4.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for chapter 4 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INTRODUCTION TO THE CELL</a:t>
            </a:r>
            <a:endParaRPr b="1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9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1 Microscopes provide windows to the world of the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ght microscope (L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43080">
              <a:spcBef>
                <a:spcPts val="751"/>
              </a:spcBef>
              <a:spcAft>
                <a:spcPts val="601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us to see the overall shape and structure of a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2242080" y="2644920"/>
            <a:ext cx="4068360" cy="3817800"/>
            <a:chOff x="2242080" y="2644920"/>
            <a:chExt cx="4068360" cy="3817800"/>
          </a:xfrm>
        </p:grpSpPr>
        <p:pic>
          <p:nvPicPr>
            <p:cNvPr id="106" name="Picture 5" descr="_x001b_04_01aLightMicroscope_U.jpg   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594240" y="2644920"/>
              <a:ext cx="271620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6"/>
            <p:cNvSpPr/>
            <p:nvPr/>
          </p:nvSpPr>
          <p:spPr>
            <a:xfrm>
              <a:off x="3657600" y="2975040"/>
              <a:ext cx="2127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2702880" y="283212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yepie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3357360" y="3268800"/>
              <a:ext cx="703080" cy="2728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785320" y="3182760"/>
              <a:ext cx="63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cula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 flipH="1" flipV="1">
              <a:off x="3957840" y="4182840"/>
              <a:ext cx="892080" cy="31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242080" y="394956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ive 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 flipH="1" flipV="1">
              <a:off x="3700440" y="4487760"/>
              <a:ext cx="11671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2302920" y="433080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pecim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 flipH="1" flipV="1">
              <a:off x="3364200" y="5059440"/>
              <a:ext cx="1449360" cy="2109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2347920" y="4718160"/>
              <a:ext cx="92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dens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 flipH="1">
              <a:off x="3238560" y="5460840"/>
              <a:ext cx="1587600" cy="2160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2610000" y="534816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19"/>
          <p:cNvSpPr/>
          <p:nvPr/>
        </p:nvSpPr>
        <p:spPr>
          <a:xfrm>
            <a:off x="1448640" y="60595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ure 4.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9"/>
          <p:cNvSpPr/>
          <p:nvPr/>
        </p:nvSpPr>
        <p:spPr>
          <a:xfrm>
            <a:off x="3219480" y="4486320"/>
            <a:ext cx="1324080" cy="1904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22"/>
          <p:cNvSpPr/>
          <p:nvPr/>
        </p:nvSpPr>
        <p:spPr>
          <a:xfrm>
            <a:off x="3381480" y="4087800"/>
            <a:ext cx="1468440" cy="4111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microsc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fy cells, living and preser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d, up to 1,000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483480" y="2473200"/>
            <a:ext cx="8419680" cy="3949560"/>
            <a:chOff x="483480" y="2473200"/>
            <a:chExt cx="8419680" cy="3949560"/>
          </a:xfrm>
        </p:grpSpPr>
        <p:grpSp>
          <p:nvGrpSpPr>
            <p:cNvPr id="124" name="Group 4"/>
            <p:cNvGrpSpPr/>
            <p:nvPr/>
          </p:nvGrpSpPr>
          <p:grpSpPr>
            <a:xfrm>
              <a:off x="1335240" y="2473200"/>
              <a:ext cx="7567920" cy="3949560"/>
              <a:chOff x="1335240" y="2473200"/>
              <a:chExt cx="7567920" cy="3949560"/>
            </a:xfrm>
          </p:grpSpPr>
          <p:pic>
            <p:nvPicPr>
              <p:cNvPr id="125" name="Picture 5" descr="_x0016_04_01bEuglenaLM_UP.jpg                                         0050AA83_x0003_203                            BE5F24FD:"/>
              <p:cNvPicPr/>
              <p:nvPr/>
            </p:nvPicPr>
            <p:blipFill>
              <a:blip r:embed="rId1"/>
              <a:stretch/>
            </p:blipFill>
            <p:spPr>
              <a:xfrm>
                <a:off x="1335240" y="2473200"/>
                <a:ext cx="7426440" cy="39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6"/>
              <p:cNvSpPr/>
              <p:nvPr/>
            </p:nvSpPr>
            <p:spPr>
              <a:xfrm flipH="1" rot="16200000">
                <a:off x="8093880" y="5515200"/>
                <a:ext cx="12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M 1,00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Text Box 7"/>
            <p:cNvSpPr/>
            <p:nvPr/>
          </p:nvSpPr>
          <p:spPr>
            <a:xfrm>
              <a:off x="483480" y="60451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ctron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576"/>
              </a:spcBef>
              <a:spcAft>
                <a:spcPts val="700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greater magnification and reveals cellular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1"/>
          <p:cNvGrpSpPr/>
          <p:nvPr/>
        </p:nvGrpSpPr>
        <p:grpSpPr>
          <a:xfrm>
            <a:off x="165240" y="2860560"/>
            <a:ext cx="8751600" cy="2965680"/>
            <a:chOff x="165240" y="2860560"/>
            <a:chExt cx="8751600" cy="2965680"/>
          </a:xfrm>
        </p:grpSpPr>
        <p:grpSp>
          <p:nvGrpSpPr>
            <p:cNvPr id="130" name="Group 29"/>
            <p:cNvGrpSpPr/>
            <p:nvPr/>
          </p:nvGrpSpPr>
          <p:grpSpPr>
            <a:xfrm>
              <a:off x="165240" y="2866680"/>
              <a:ext cx="4042440" cy="2781360"/>
              <a:chOff x="165240" y="2866680"/>
              <a:chExt cx="4042440" cy="2781360"/>
            </a:xfrm>
          </p:grpSpPr>
          <p:pic>
            <p:nvPicPr>
              <p:cNvPr id="131" name="Picture 26" descr="_x0017_04_01cEuglenaSEM_UP.jpg                                        0050AA83_x0003_203                            BE828CDE:"/>
              <p:cNvPicPr/>
              <p:nvPr/>
            </p:nvPicPr>
            <p:blipFill>
              <a:blip r:embed="rId1"/>
              <a:stretch/>
            </p:blipFill>
            <p:spPr>
              <a:xfrm>
                <a:off x="165240" y="2866680"/>
                <a:ext cx="3902040" cy="27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6"/>
              <p:cNvSpPr/>
              <p:nvPr/>
            </p:nvSpPr>
            <p:spPr>
              <a:xfrm flipH="1" rot="16200000">
                <a:off x="3239280" y="465768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M 2,000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30"/>
            <p:cNvGrpSpPr/>
            <p:nvPr/>
          </p:nvGrpSpPr>
          <p:grpSpPr>
            <a:xfrm>
              <a:off x="4232160" y="2860560"/>
              <a:ext cx="4684680" cy="2790720"/>
              <a:chOff x="4232160" y="2860560"/>
              <a:chExt cx="4684680" cy="2790720"/>
            </a:xfrm>
          </p:grpSpPr>
          <p:pic>
            <p:nvPicPr>
              <p:cNvPr id="134" name="Picture 27" descr="_x0017_04_01dEuglenaTEM_UP.jpg                                        0050AA83_x0003_203                            BE828CDE:"/>
              <p:cNvPicPr/>
              <p:nvPr/>
            </p:nvPicPr>
            <p:blipFill>
              <a:blip r:embed="rId2"/>
              <a:stretch/>
            </p:blipFill>
            <p:spPr>
              <a:xfrm>
                <a:off x="4232160" y="2860560"/>
                <a:ext cx="4569120" cy="27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9"/>
              <p:cNvSpPr/>
              <p:nvPr/>
            </p:nvSpPr>
            <p:spPr>
              <a:xfrm flipH="1" rot="16200000">
                <a:off x="7938360" y="4636440"/>
                <a:ext cx="164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M 2,800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Text Box 12"/>
            <p:cNvSpPr/>
            <p:nvPr/>
          </p:nvSpPr>
          <p:spPr>
            <a:xfrm>
              <a:off x="172080" y="55497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4255200" y="553860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8480" indent="-34128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types of light microsco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86080" indent="-339840">
              <a:spcBef>
                <a:spcPts val="1463"/>
              </a:spcBef>
              <a:spcAft>
                <a:spcPts val="649"/>
              </a:spcAft>
              <a:buClr>
                <a:srgbClr val="cc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different techniques to enhance contrast and selectively highlight cellular compon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63600" y="3220920"/>
            <a:ext cx="8378280" cy="3011760"/>
            <a:chOff x="363600" y="3220920"/>
            <a:chExt cx="8378280" cy="3011760"/>
          </a:xfrm>
        </p:grpSpPr>
        <p:pic>
          <p:nvPicPr>
            <p:cNvPr id="140" name="Picture 5" descr="_x001e_04_01eContrastMicroscopy_U.jpg                                 0050AA83_x0003_203                            BE5F24FD:"/>
            <p:cNvPicPr/>
            <p:nvPr/>
          </p:nvPicPr>
          <p:blipFill>
            <a:blip r:embed="rId1"/>
            <a:stretch/>
          </p:blipFill>
          <p:spPr>
            <a:xfrm>
              <a:off x="363600" y="3440160"/>
              <a:ext cx="481284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6"/>
            <p:cNvSpPr/>
            <p:nvPr/>
          </p:nvSpPr>
          <p:spPr>
            <a:xfrm flipH="1" rot="16200000">
              <a:off x="4634640" y="5363280"/>
              <a:ext cx="96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5362200" y="3220920"/>
              <a:ext cx="3379680" cy="2809800"/>
              <a:chOff x="5362200" y="3220920"/>
              <a:chExt cx="3379680" cy="2809800"/>
            </a:xfrm>
          </p:grpSpPr>
          <p:pic>
            <p:nvPicPr>
              <p:cNvPr id="143" name="Picture 9" descr="_x001e_04_01fFluorescMicroscopy_U.jpg                                 0050AA83_x0003_203                            BE5F24FD:"/>
              <p:cNvPicPr/>
              <p:nvPr/>
            </p:nvPicPr>
            <p:blipFill>
              <a:blip r:embed="rId2"/>
              <a:stretch/>
            </p:blipFill>
            <p:spPr>
              <a:xfrm>
                <a:off x="5362200" y="3220920"/>
                <a:ext cx="3210120" cy="27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10"/>
              <p:cNvSpPr/>
              <p:nvPr/>
            </p:nvSpPr>
            <p:spPr>
              <a:xfrm flipH="1" rot="16200000">
                <a:off x="8071200" y="5360040"/>
                <a:ext cx="106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,00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Text Box 12"/>
            <p:cNvSpPr/>
            <p:nvPr/>
          </p:nvSpPr>
          <p:spPr>
            <a:xfrm>
              <a:off x="444600" y="595620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360040" y="594540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gure 4.1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8T11:59:42Z</cp:lastPrinted>
  <dcterms:modified xsi:type="dcterms:W3CDTF">2009-09-20T20:44:09Z</dcterms:modified>
  <cp:revision>493</cp:revision>
  <dc:subject/>
  <dc:title>Slide 1</dc:title>
</cp:coreProperties>
</file>